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whoosh.wav" ContentType="audio/x-wav"/>
  <Override PartName="/ppt/media/chimes.wav" ContentType="audio/x-wav"/>
  <Override PartName="/ppt/media/image1.png" ContentType="image/png"/>
  <Override PartName="/ppt/media/glas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DA8-62F0-489E-A339-4AF72762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1CD-4CA7-4D33-91CE-CDD9E50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C63-8B8C-4A4E-B686-134BB369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243-D424-4D86-8540-B2DC5FDE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F1FE-CFBB-429B-B49D-62BC3A39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2BB8-DCEC-4F4E-BE42-13C9C013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81C-A6AB-40AA-8354-B5F4BBD9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A16-5B5E-4BAB-A06B-31D1C5B6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5E70-F32B-4450-9ADA-87C96480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C6A-4BEB-4A75-BD75-0EFD811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9B6-9D4A-4CF1-A0A0-0EC6985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53F-CE1F-468B-9E56-A7C09C4E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8E6A-8AA8-4B74-9B7C-A005D89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E22-12AC-4A68-ACD1-6042F60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C73E-63DD-483E-9114-5134E78A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579-FAC8-4706-A559-EBA0F2F5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024-6634-4725-BFC8-B5139B19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EB6-89B5-4B5E-BAB3-BBABC754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E60-985A-432A-99EB-65FE41BA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6BE-B4F6-4AE8-A1E0-2D57539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C52-DAB0-49D1-9FBB-94B4781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860-AAAF-4094-931D-2058D86C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1E0-D046-41B8-874B-DE0AFA7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44A-9CDD-4CF3-AEDD-C175D15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679B-044B-4050-AD18-E72855EF6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F29F-6F8A-4CCC-8C55-65850838C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00cccc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362320" y="152280"/>
            <a:ext cx="38862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udir MT"/>
              </a:rPr>
              <a:t>تسمية الألكانات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udir MT"/>
              <a:ea typeface="Mudir MT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066680"/>
          <a:ext cx="7848360" cy="5504040"/>
        </p:xfrm>
        <a:graphic>
          <a:graphicData uri="http://schemas.openxmlformats.org/drawingml/2006/table">
            <a:tbl>
              <a:tblPr/>
              <a:tblGrid>
                <a:gridCol w="1495440"/>
                <a:gridCol w="1495440"/>
                <a:gridCol w="1495440"/>
                <a:gridCol w="1685880"/>
                <a:gridCol w="1676160"/>
              </a:tblGrid>
              <a:tr h="13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صيغ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زيئ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م شق الألك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صيغة الجزيئي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م الألك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دد ذرات الكربو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يث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يث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إيث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إيث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ر وب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روب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يوت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يوت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نت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بنت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---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هكسي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1" lang="en-US" sz="29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هكسا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326a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19320" y="2681280"/>
            <a:ext cx="4267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609480"/>
            <a:ext cx="6019920" cy="11912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0000"/>
                </a:solidFill>
                <a:latin typeface="Times New Roman"/>
                <a:cs typeface="Mudir MT"/>
              </a:rPr>
              <a:t>قواعد التسمية طبقا لنظام الإيوبا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600200"/>
            <a:ext cx="7010640" cy="1191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نبحث عن أطول سلسلة من ذرات الكربون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438280"/>
            <a:ext cx="3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438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438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438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2438280"/>
            <a:ext cx="3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2438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3124080"/>
            <a:ext cx="0" cy="15264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809880"/>
            <a:ext cx="5029200" cy="11912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الفروع تأخذ أقل ترقي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67280"/>
            <a:ext cx="42670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4724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4724280"/>
            <a:ext cx="3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724280"/>
            <a:ext cx="3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724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724280"/>
            <a:ext cx="3049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724280"/>
            <a:ext cx="3045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5410080"/>
            <a:ext cx="0" cy="15264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54864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32004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90920" y="2286000"/>
            <a:ext cx="1295280" cy="510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304920"/>
            <a:ext cx="4267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ترتب الفروع أبجدي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523880"/>
            <a:ext cx="3353040" cy="946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10666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106668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106668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0666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0666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06668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2286000"/>
            <a:ext cx="761760" cy="510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190512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190512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048120"/>
            <a:ext cx="3353040" cy="825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– ايثي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- ميثيل هكس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486400"/>
            <a:ext cx="1295280" cy="510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4724280"/>
            <a:ext cx="3124080" cy="946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42670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42670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42670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426708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42670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426708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510552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510552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486400"/>
            <a:ext cx="7621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6095880"/>
            <a:ext cx="3352680" cy="825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– ايثي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- كلورو هكس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2895480"/>
            <a:ext cx="838080" cy="510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733920"/>
            <a:ext cx="3352680" cy="946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339732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339732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339732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97320"/>
            <a:ext cx="30456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3397320"/>
            <a:ext cx="22860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397320"/>
            <a:ext cx="30492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4495680"/>
            <a:ext cx="762120" cy="510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352680"/>
            <a:ext cx="0" cy="38124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11480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44956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4114800"/>
            <a:ext cx="0" cy="380880"/>
          </a:xfrm>
          <a:prstGeom prst="line">
            <a:avLst/>
          </a:prstGeom>
          <a:ln w="38160">
            <a:solidFill>
              <a:srgbClr val="2326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5257800"/>
            <a:ext cx="4191120" cy="825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– ايثي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- بروم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- ميثيل هكس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21:21:36Z</dcterms:created>
  <dc:creator>win98</dc:creator>
  <dc:description/>
  <dc:language>en-US</dc:language>
  <cp:lastModifiedBy>***</cp:lastModifiedBy>
  <dcterms:modified xsi:type="dcterms:W3CDTF">2004-03-22T22:39:31Z</dcterms:modified>
  <cp:revision>7</cp:revision>
  <dc:subject/>
  <dc:title>عرض تقديمي من PowerPoint</dc:title>
</cp:coreProperties>
</file>