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voltage.wav" ContentType="audio/x-wav"/>
  <Override PartName="/ppt/media/wind.wav" ContentType="audio/x-wav"/>
  <Override PartName="/ppt/media/arr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0D7A-CFC7-41A7-AAD6-6C8355F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B38D-811F-4015-A040-ECCB2DF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210C-9922-42B6-A127-B7C762D8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23F2-6F0A-4764-8EFD-62F3D42A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E7A-42E1-413C-92C0-D269304D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775-6F09-4214-A012-6486EBA7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7E4-C4AF-430A-B77B-D04564B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90B1-9178-4933-89E0-A913B17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ABF9-57C0-43FB-AD46-D868870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B15-B5A1-4840-AEF6-990781C6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3D2D-7B58-402A-80CC-889F578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93EE-DA56-4FEE-B76F-219A087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33A3-7214-4704-BAAA-C163FA4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059-A159-4A31-AF8E-459BE5F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4BF-79D6-4395-A37C-7C89F75E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492-BC68-4E2D-AB43-EF65C9B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8AC-E93F-44A5-81CE-6B68A802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E298-AF84-4630-910B-EBF8DADD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79FE-E8F6-4650-B63E-5BF19DB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A9D6-8036-423D-B2CA-2715E8C8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D9EF-442E-4D0C-A5D2-858B8A2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4F13-E6CE-4088-99E9-434D602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6B9A-8D14-499C-8818-4F5D041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EB75-8469-4A8B-A731-22F6106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2FA-0041-41B6-8EE0-4E3FCBFF4709}" type="slidenum"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7f3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224-6ADD-4EE3-B83E-8A0EB6CDC109}" type="slidenum">
              <a:rPr b="0" lang="en-US" sz="1200" spc="-1" strike="noStrike">
                <a:solidFill>
                  <a:srgbClr val="f7f3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arrow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000" y="2637000"/>
            <a:ext cx="77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7f3f3"/>
                </a:solidFill>
                <a:latin typeface="Garamond"/>
                <a:cs typeface="PT Bold Heading"/>
              </a:rPr>
              <a:t>يعني وجود اتحاد الموافقة بين الألوان ، ينشأ عن استخدام خاصية المصاهرة و التقارب بين الألوان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 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.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221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7f3f3"/>
                </a:solidFill>
                <a:latin typeface="Garamond"/>
                <a:cs typeface="PT Bold Heading"/>
              </a:rPr>
              <a:t>ويعني أيضاً مجموعة من الألوان تؤثر على العين و النفس تأثيراً ساراً أو حسناَ أو ممتعناً ، وتتصف بالوحدة رغم الاختلاف الواضح بينها في بعض الحالات .</a:t>
            </a:r>
            <a:endParaRPr b="0" lang="en-US" sz="24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84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d69ff"/>
                </a:solidFill>
                <a:latin typeface="Garamond"/>
                <a:cs typeface="Monotype Koufi"/>
              </a:rPr>
              <a:t>امثلة لمجموعات لونية تتميز بالتوافق :</a:t>
            </a:r>
            <a:endParaRPr b="0" lang="en-US" sz="44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d69ff"/>
                </a:solidFill>
                <a:latin typeface="Garamond"/>
                <a:cs typeface="Monotype Koufi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319120"/>
            <a:ext cx="8362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1</a:t>
            </a:r>
            <a:r>
              <a:rPr b="0" lang="ar-SA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-الألوان المترابطة بكنه لون واحد ، و تعرف عادة باسم أحادية اللون ، حيث يستعمل فيها كنه لون واحد .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7f3f3"/>
                </a:solidFill>
                <a:latin typeface="Garamond"/>
                <a:cs typeface="PT Bold Heading"/>
              </a:rPr>
              <a:t>مثل لون نستنبط منه عدد من الدرجات المختلفة في القيمة ، و ذلك بإضافة الأبيض أو الأسود إليه  ( منو كروم ) </a:t>
            </a:r>
            <a:r>
              <a:rPr b="0" lang="ar-SA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0</a:t>
            </a:r>
            <a:r>
              <a:rPr b="0" lang="ar-SA" sz="2800" spc="-1" strike="noStrike">
                <a:solidFill>
                  <a:srgbClr val="f7f3f3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4795920"/>
            <a:ext cx="1081080" cy="504720"/>
          </a:xfrm>
          <a:prstGeom prst="rect">
            <a:avLst/>
          </a:prstGeom>
          <a:solidFill>
            <a:srgbClr val="0a3fd4"/>
          </a:solidFill>
          <a:ln w="28440">
            <a:solidFill>
              <a:srgbClr val="5e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276720" y="4795920"/>
            <a:ext cx="2519280" cy="504720"/>
            <a:chOff x="3276720" y="4795920"/>
            <a:chExt cx="2519280" cy="504720"/>
          </a:xfrm>
        </p:grpSpPr>
        <p:sp>
          <p:nvSpPr>
            <p:cNvPr id="107" name=""/>
            <p:cNvSpPr/>
            <p:nvPr/>
          </p:nvSpPr>
          <p:spPr>
            <a:xfrm>
              <a:off x="5292720" y="4795920"/>
              <a:ext cx="503280" cy="503280"/>
            </a:xfrm>
            <a:prstGeom prst="rect">
              <a:avLst/>
            </a:prstGeom>
            <a:solidFill>
              <a:srgbClr val="3769f5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4795920"/>
              <a:ext cx="504720" cy="504720"/>
            </a:xfrm>
            <a:prstGeom prst="rect">
              <a:avLst/>
            </a:prstGeom>
            <a:solidFill>
              <a:srgbClr val="0833ac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27280" y="4795920"/>
            <a:ext cx="3816360" cy="504720"/>
            <a:chOff x="2627280" y="4795920"/>
            <a:chExt cx="3816360" cy="504720"/>
          </a:xfrm>
        </p:grpSpPr>
        <p:sp>
          <p:nvSpPr>
            <p:cNvPr id="110" name=""/>
            <p:cNvSpPr/>
            <p:nvPr/>
          </p:nvSpPr>
          <p:spPr>
            <a:xfrm>
              <a:off x="5940360" y="4797360"/>
              <a:ext cx="503280" cy="503280"/>
            </a:xfrm>
            <a:prstGeom prst="rect">
              <a:avLst/>
            </a:prstGeom>
            <a:solidFill>
              <a:srgbClr val="6c91f8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4795920"/>
              <a:ext cx="504720" cy="504720"/>
            </a:xfrm>
            <a:prstGeom prst="rect">
              <a:avLst/>
            </a:prstGeom>
            <a:solidFill>
              <a:srgbClr val="062374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79640" y="4795920"/>
            <a:ext cx="5113440" cy="504720"/>
            <a:chOff x="1979640" y="4795920"/>
            <a:chExt cx="5113440" cy="504720"/>
          </a:xfrm>
        </p:grpSpPr>
        <p:sp>
          <p:nvSpPr>
            <p:cNvPr id="113" name=""/>
            <p:cNvSpPr/>
            <p:nvPr/>
          </p:nvSpPr>
          <p:spPr>
            <a:xfrm>
              <a:off x="6589800" y="4795920"/>
              <a:ext cx="503280" cy="503280"/>
            </a:xfrm>
            <a:prstGeom prst="rect">
              <a:avLst/>
            </a:prstGeom>
            <a:solidFill>
              <a:srgbClr val="b6c8fc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79640" y="4795920"/>
              <a:ext cx="504720" cy="504720"/>
            </a:xfrm>
            <a:prstGeom prst="rect">
              <a:avLst/>
            </a:prstGeom>
            <a:solidFill>
              <a:srgbClr val="051a57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32000" y="4795920"/>
            <a:ext cx="6408720" cy="504720"/>
            <a:chOff x="1332000" y="4795920"/>
            <a:chExt cx="6408720" cy="504720"/>
          </a:xfrm>
        </p:grpSpPr>
        <p:sp>
          <p:nvSpPr>
            <p:cNvPr id="116" name=""/>
            <p:cNvSpPr/>
            <p:nvPr/>
          </p:nvSpPr>
          <p:spPr>
            <a:xfrm>
              <a:off x="7237440" y="4797360"/>
              <a:ext cx="503280" cy="503280"/>
            </a:xfrm>
            <a:prstGeom prst="rect">
              <a:avLst/>
            </a:prstGeom>
            <a:solidFill>
              <a:srgbClr val="f7f9ff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2000" y="4795920"/>
              <a:ext cx="504720" cy="504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5e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46348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2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- مجموعة لونية مشتركة في كنه لون واحد ، و متقاربة على الدائرة اللونية 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0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7f3f3"/>
                </a:solidFill>
                <a:latin typeface="Garamond"/>
                <a:cs typeface="PT Bold Heading"/>
              </a:rPr>
              <a:t>كالبرتقالي و البرتقالي المصفر و البرتقالي المحمر 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0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4437000"/>
            <a:ext cx="863280" cy="863640"/>
          </a:xfrm>
          <a:prstGeom prst="rect">
            <a:avLst/>
          </a:prstGeom>
          <a:solidFill>
            <a:srgbClr val="cc6600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59280" y="4437000"/>
            <a:ext cx="3024000" cy="863640"/>
            <a:chOff x="3059280" y="4437000"/>
            <a:chExt cx="3024000" cy="863640"/>
          </a:xfrm>
        </p:grpSpPr>
        <p:sp>
          <p:nvSpPr>
            <p:cNvPr id="121" name=""/>
            <p:cNvSpPr/>
            <p:nvPr/>
          </p:nvSpPr>
          <p:spPr>
            <a:xfrm>
              <a:off x="5219640" y="4437000"/>
              <a:ext cx="863640" cy="863640"/>
            </a:xfrm>
            <a:prstGeom prst="rect">
              <a:avLst/>
            </a:prstGeom>
            <a:solidFill>
              <a:srgbClr val="cc2200"/>
            </a:solidFill>
            <a:ln w="9360">
              <a:solidFill>
                <a:srgbClr val="f7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59280" y="4437000"/>
              <a:ext cx="863280" cy="863640"/>
            </a:xfrm>
            <a:prstGeom prst="rect">
              <a:avLst/>
            </a:prstGeom>
            <a:solidFill>
              <a:srgbClr val="cc9200"/>
            </a:solidFill>
            <a:ln w="9360">
              <a:solidFill>
                <a:srgbClr val="f7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79640" y="4437000"/>
            <a:ext cx="5184720" cy="863640"/>
            <a:chOff x="1979640" y="4437000"/>
            <a:chExt cx="5184720" cy="863640"/>
          </a:xfrm>
        </p:grpSpPr>
        <p:sp>
          <p:nvSpPr>
            <p:cNvPr id="124" name=""/>
            <p:cNvSpPr/>
            <p:nvPr/>
          </p:nvSpPr>
          <p:spPr>
            <a:xfrm>
              <a:off x="6300720" y="4437000"/>
              <a:ext cx="863640" cy="863640"/>
            </a:xfrm>
            <a:prstGeom prst="rect">
              <a:avLst/>
            </a:prstGeom>
            <a:solidFill>
              <a:srgbClr val="bc0000"/>
            </a:solidFill>
            <a:ln w="9360">
              <a:solidFill>
                <a:srgbClr val="f7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9640" y="4437000"/>
              <a:ext cx="863640" cy="8636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f7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8c1ba"/>
                </a:solidFill>
                <a:latin typeface="Garamond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33080" y="1960560"/>
            <a:ext cx="8459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3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- مجموعة لونية</a:t>
            </a:r>
            <a:r>
              <a:rPr b="0" lang="en-US" sz="1600" spc="-1" strike="noStrike">
                <a:solidFill>
                  <a:srgbClr val="f7f3f3"/>
                </a:solidFill>
                <a:latin typeface="Garamond"/>
                <a:ea typeface="PT Bold Heading"/>
              </a:rPr>
              <a:t> </a:t>
            </a:r>
            <a:r>
              <a:rPr b="0" lang="hi-IN" sz="3200" spc="-1" strike="noStrike">
                <a:solidFill>
                  <a:srgbClr val="f7f3f3"/>
                </a:solidFill>
                <a:latin typeface="Garamond"/>
                <a:cs typeface="PT Bold Heading"/>
              </a:rPr>
              <a:t>متباعدة الكنه و متقاربة في الشـدة والقيمة</a:t>
            </a:r>
            <a:r>
              <a:rPr b="0" lang="en-US" sz="16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7f3f3"/>
                </a:solidFill>
                <a:latin typeface="Garamond"/>
              </a:rPr>
              <a:t>0</a:t>
            </a:r>
            <a:endParaRPr b="0" lang="en-US" sz="16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3357720"/>
            <a:ext cx="863280" cy="863280"/>
          </a:xfrm>
          <a:prstGeom prst="rect">
            <a:avLst/>
          </a:prstGeom>
          <a:solidFill>
            <a:srgbClr val="cc6600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3357720"/>
            <a:ext cx="863640" cy="863280"/>
          </a:xfrm>
          <a:prstGeom prst="rect">
            <a:avLst/>
          </a:prstGeom>
          <a:solidFill>
            <a:srgbClr val="027808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3357720"/>
            <a:ext cx="863280" cy="863280"/>
          </a:xfrm>
          <a:prstGeom prst="rect">
            <a:avLst/>
          </a:prstGeom>
          <a:solidFill>
            <a:srgbClr val="733a92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102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7f3f3"/>
                </a:solidFill>
                <a:latin typeface="Garamond"/>
                <a:cs typeface="PT Bold Heading"/>
              </a:rPr>
              <a:t>ينتج التوافق حين تتقارب درجة التشبع أو القيمة </a:t>
            </a:r>
            <a:endParaRPr b="0" lang="en-US" sz="2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8c1ba"/>
                </a:solidFill>
                <a:latin typeface="Garamond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4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  <a:ea typeface="PT Bold Heading"/>
              </a:rPr>
              <a:t>- مجموعة الألوان الفاتحة و المجاورة للأبيض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0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4068720" y="3862440"/>
            <a:ext cx="863640" cy="863640"/>
          </a:xfrm>
          <a:prstGeom prst="rect">
            <a:avLst/>
          </a:prstGeom>
          <a:solidFill>
            <a:srgbClr val="f7f3f3"/>
          </a:solidFill>
          <a:ln w="28440">
            <a:solidFill>
              <a:srgbClr val="0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862440"/>
            <a:ext cx="863640" cy="863640"/>
          </a:xfrm>
          <a:prstGeom prst="rect">
            <a:avLst/>
          </a:prstGeom>
          <a:solidFill>
            <a:srgbClr val="ff8c75"/>
          </a:solidFill>
          <a:ln w="28440">
            <a:solidFill>
              <a:srgbClr val="0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862440"/>
            <a:ext cx="863640" cy="863640"/>
          </a:xfrm>
          <a:prstGeom prst="rect">
            <a:avLst/>
          </a:prstGeom>
          <a:solidFill>
            <a:srgbClr val="9f63c1"/>
          </a:solidFill>
          <a:ln w="28440">
            <a:solidFill>
              <a:srgbClr val="0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8720" y="4941720"/>
            <a:ext cx="863640" cy="863640"/>
          </a:xfrm>
          <a:prstGeom prst="rect">
            <a:avLst/>
          </a:prstGeom>
          <a:solidFill>
            <a:srgbClr val="676af3"/>
          </a:solidFill>
          <a:ln w="28440">
            <a:solidFill>
              <a:srgbClr val="0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2782800"/>
            <a:ext cx="863640" cy="863640"/>
          </a:xfrm>
          <a:prstGeom prst="rect">
            <a:avLst/>
          </a:prstGeom>
          <a:solidFill>
            <a:srgbClr val="67ff37"/>
          </a:solidFill>
          <a:ln w="28440">
            <a:solidFill>
              <a:srgbClr val="0c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8c1ba"/>
                </a:solidFill>
                <a:latin typeface="Garamond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31640" y="1744200"/>
            <a:ext cx="6923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5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- مجموعة الألوان الغامقة المجاورة للأسود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4068720" y="3862440"/>
            <a:ext cx="863640" cy="863640"/>
          </a:xfrm>
          <a:prstGeom prst="rect">
            <a:avLst/>
          </a:prstGeom>
          <a:solidFill>
            <a:srgbClr val="070505"/>
          </a:solidFill>
          <a:ln w="2844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862440"/>
            <a:ext cx="863640" cy="863640"/>
          </a:xfrm>
          <a:prstGeom prst="rect">
            <a:avLst/>
          </a:prstGeom>
          <a:solidFill>
            <a:srgbClr val="6c1200"/>
          </a:solidFill>
          <a:ln w="2844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3862440"/>
            <a:ext cx="863640" cy="863640"/>
          </a:xfrm>
          <a:prstGeom prst="rect">
            <a:avLst/>
          </a:prstGeom>
          <a:solidFill>
            <a:srgbClr val="864300"/>
          </a:solidFill>
          <a:ln w="2844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8720" y="4941720"/>
            <a:ext cx="863640" cy="863640"/>
          </a:xfrm>
          <a:prstGeom prst="rect">
            <a:avLst/>
          </a:prstGeom>
          <a:solidFill>
            <a:srgbClr val="07095d"/>
          </a:solidFill>
          <a:ln w="2844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2782800"/>
            <a:ext cx="863640" cy="863640"/>
          </a:xfrm>
          <a:prstGeom prst="rect">
            <a:avLst/>
          </a:prstGeom>
          <a:solidFill>
            <a:srgbClr val="114800"/>
          </a:solidFill>
          <a:ln w="2844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460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8c1ba"/>
                </a:solidFill>
                <a:latin typeface="Garamond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6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  <a:ea typeface="PT Bold Heading"/>
              </a:rPr>
              <a:t>- مجموعة الألوان المحايدة ، إذ يمكن الجمع بين العديد من الألوان المتباعدة على الدائرة اللونية ، سواءً كانت ألوان ساخنة ، أو الوان باردة ، عن طريق الألوان المحايدة </a:t>
            </a: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7f3f3"/>
                </a:solidFill>
                <a:latin typeface="Garamond"/>
                <a:cs typeface="Monotype Koufi"/>
              </a:rPr>
              <a:t>حيث ينشأ التوافق عن طريق اشتراك  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393372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7f3f3"/>
                </a:solidFill>
                <a:latin typeface="Garamond"/>
                <a:cs typeface="PT Bold Heading"/>
              </a:rPr>
              <a:t>اللون الثلاثي التالي :- </a:t>
            </a:r>
            <a:endParaRPr b="0" lang="en-US" sz="24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3860640"/>
            <a:ext cx="646200" cy="649440"/>
          </a:xfrm>
          <a:prstGeom prst="rect">
            <a:avLst/>
          </a:prstGeom>
          <a:solidFill>
            <a:srgbClr val="a56d07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9080" y="3718080"/>
            <a:ext cx="863640" cy="863280"/>
          </a:xfrm>
          <a:prstGeom prst="rect">
            <a:avLst/>
          </a:prstGeom>
          <a:solidFill>
            <a:srgbClr val="808000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6920" y="3860640"/>
            <a:ext cx="646200" cy="649440"/>
          </a:xfrm>
          <a:prstGeom prst="rect">
            <a:avLst/>
          </a:prstGeom>
          <a:solidFill>
            <a:srgbClr val="3f8145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3859200"/>
            <a:ext cx="646200" cy="649440"/>
          </a:xfrm>
          <a:prstGeom prst="rect">
            <a:avLst/>
          </a:prstGeom>
          <a:solidFill>
            <a:srgbClr val="49700a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501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7f3f3"/>
                </a:solidFill>
                <a:latin typeface="Garamond"/>
                <a:cs typeface="PT Bold Heading"/>
              </a:rPr>
              <a:t>اللون المحايد الرمادي :- </a:t>
            </a:r>
            <a:endParaRPr b="0" lang="en-US" sz="24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5011560"/>
            <a:ext cx="646200" cy="649440"/>
          </a:xfrm>
          <a:prstGeom prst="rect">
            <a:avLst/>
          </a:prstGeom>
          <a:solidFill>
            <a:srgbClr val="917f3b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9080" y="4869000"/>
            <a:ext cx="86364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5011560"/>
            <a:ext cx="646200" cy="649440"/>
          </a:xfrm>
          <a:prstGeom prst="rect">
            <a:avLst/>
          </a:prstGeom>
          <a:solidFill>
            <a:srgbClr val="509253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010120"/>
            <a:ext cx="646200" cy="649440"/>
          </a:xfrm>
          <a:prstGeom prst="rect">
            <a:avLst/>
          </a:prstGeom>
          <a:solidFill>
            <a:srgbClr val="6e9a26"/>
          </a:solidFill>
          <a:ln w="9360">
            <a:solidFill>
              <a:srgbClr val="f7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8c1ba"/>
                </a:solidFill>
                <a:latin typeface="Garamond"/>
              </a:rPr>
              <a:t>امثلة لمجموعات لونية تتميز بالتوافق :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8:57:15Z</dcterms:created>
  <dc:creator>compu shop</dc:creator>
  <dc:description/>
  <dc:language>en-US</dc:language>
  <cp:lastModifiedBy>User</cp:lastModifiedBy>
  <dcterms:modified xsi:type="dcterms:W3CDTF">2007-12-07T19:41:49Z</dcterms:modified>
  <cp:revision>11</cp:revision>
  <dc:subject/>
  <dc:title>الألوان المتوافقة { التوافق اللوني }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