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whoosh.wav" ContentType="audio/x-wav"/>
  <Override PartName="/ppt/media/hammer.wav" ContentType="audio/x-wav"/>
  <Override PartName="/ppt/media/type.wav" ContentType="audio/x-wav"/>
  <Override PartName="/ppt/media/chimes.wav" ContentType="audio/x-wav"/>
  <Override PartName="/ppt/media/image2.jpeg" ContentType="image/jpeg"/>
  <Override PartName="/ppt/media/image3.png" ContentType="image/png"/>
  <Override PartName="/ppt/media/camera.wav" ContentType="audio/x-wav"/>
  <Override PartName="/ppt/media/arrow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BA35-1FC8-4AAB-B4A8-418C0BA7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0A34-5907-470B-BD6E-F0296B06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2A9B-9130-44D9-AEE9-62D236BC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C6DA-28F8-45F5-B4CF-7C1DCC4D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DA38-A9A1-49F5-B1BE-F8022A67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2841-B831-4B70-A3F3-9E55CEAF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24A2-D194-4CCC-8311-5CC03D13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FE1C-CC18-411C-9E27-48E228C4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40CC-5110-43B2-99E3-5C48AE76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256C-B2A6-4514-806B-2FBFC246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3E2A-5D0D-474E-8F85-878F3964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CCBD-80E7-4428-A8A5-97D2432E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49FE-0759-4014-B08B-637E0559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23A6-3239-4801-A2A0-3690F909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6DA3-5E86-45C0-A421-43B6619A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5820-3060-4E20-9DDB-37144CC8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9279-8301-4D30-BB20-4246E87D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465-1C5C-4DCD-95CB-8728AFE9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8D4B-7A7F-4823-9A6F-98E6E6C1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7DAF-343F-4D6F-8453-61EF45BA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8F27-D7DE-49D9-B507-7E99104F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4F17-515D-4B75-A183-D525AB8D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4E85-82B1-4490-8EED-DA4ACFC2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0C1E-59AF-4252-BF2E-72B65F21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8845-0A62-4533-AA93-65BA3DC657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6539-D2F3-4FB7-820B-9E11ABE252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type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hammer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arrow.wav"/><Relationship Id="rId9" Type="http://schemas.openxmlformats.org/officeDocument/2006/relationships/audio" Target="../media/type.wav"/><Relationship Id="rId10" Type="http://schemas.openxmlformats.org/officeDocument/2006/relationships/audio" Target="../media/arrow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44280"/>
            <a:ext cx="822636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99cc00"/>
                </a:solidFill>
                <a:latin typeface="Tahoma"/>
                <a:cs typeface="Monotype Koufi"/>
              </a:rPr>
              <a:t>الألوان الساخنة و البارد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12360" y="2852280"/>
            <a:ext cx="82803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ahoma"/>
                <a:cs typeface="PT Bold Heading"/>
              </a:rPr>
              <a:t>الألوان الساخنة : تذكرنا بألوان  النار و الدم ، و هي مبعث الدفء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1989000"/>
            <a:ext cx="122544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68720" y="1989000"/>
            <a:ext cx="122544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1989000"/>
            <a:ext cx="1225440" cy="719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00360" y="4365720"/>
            <a:ext cx="1225440" cy="71892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68720" y="4365720"/>
            <a:ext cx="1225440" cy="7189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35640" y="4365720"/>
            <a:ext cx="1225440" cy="71892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5181480"/>
            <a:ext cx="828036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  <a:cs typeface="PT Bold Heading"/>
              </a:rPr>
              <a:t>الألوان الباردة : تتفق مع لون  السماء و الماء ،و هي مبعث البرودة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6156360" y="907920"/>
            <a:ext cx="1441440" cy="1449360"/>
            <a:chOff x="6156360" y="907920"/>
            <a:chExt cx="1441440" cy="1449360"/>
          </a:xfrm>
        </p:grpSpPr>
        <p:sp>
          <p:nvSpPr>
            <p:cNvPr id="92" name=""/>
            <p:cNvSpPr/>
            <p:nvPr/>
          </p:nvSpPr>
          <p:spPr>
            <a:xfrm>
              <a:off x="6372360" y="907920"/>
              <a:ext cx="1079280" cy="863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56360" y="198900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اخضر مصف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185840" y="907920"/>
            <a:ext cx="1441440" cy="1376640"/>
            <a:chOff x="1185840" y="907920"/>
            <a:chExt cx="1441440" cy="1376640"/>
          </a:xfrm>
        </p:grpSpPr>
        <p:sp>
          <p:nvSpPr>
            <p:cNvPr id="95" name=""/>
            <p:cNvSpPr/>
            <p:nvPr/>
          </p:nvSpPr>
          <p:spPr>
            <a:xfrm>
              <a:off x="1403280" y="907920"/>
              <a:ext cx="1079640" cy="863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85840" y="191628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أحمر أساسي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770200" y="1170000"/>
            <a:ext cx="3386160" cy="2139840"/>
            <a:chOff x="2770200" y="1170000"/>
            <a:chExt cx="3386160" cy="2139840"/>
          </a:xfrm>
        </p:grpSpPr>
        <p:grpSp>
          <p:nvGrpSpPr>
            <p:cNvPr id="98" name=""/>
            <p:cNvGrpSpPr/>
            <p:nvPr/>
          </p:nvGrpSpPr>
          <p:grpSpPr>
            <a:xfrm>
              <a:off x="2770200" y="1170000"/>
              <a:ext cx="3314520" cy="601560"/>
              <a:chOff x="2770200" y="1170000"/>
              <a:chExt cx="3314520" cy="601560"/>
            </a:xfrm>
          </p:grpSpPr>
          <p:sp>
            <p:nvSpPr>
              <p:cNvPr id="99" name=""/>
              <p:cNvSpPr/>
              <p:nvPr/>
            </p:nvSpPr>
            <p:spPr>
              <a:xfrm>
                <a:off x="5364000" y="1170000"/>
                <a:ext cx="720720" cy="601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498920" y="1170000"/>
                <a:ext cx="720720" cy="6015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635280" y="1170000"/>
                <a:ext cx="720720" cy="601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770200" y="1170000"/>
                <a:ext cx="720720" cy="60156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843280" y="2708280"/>
              <a:ext cx="3313080" cy="601560"/>
              <a:chOff x="2843280" y="2708280"/>
              <a:chExt cx="3313080" cy="601560"/>
            </a:xfrm>
          </p:grpSpPr>
          <p:sp>
            <p:nvSpPr>
              <p:cNvPr id="104" name=""/>
              <p:cNvSpPr/>
              <p:nvPr/>
            </p:nvSpPr>
            <p:spPr>
              <a:xfrm>
                <a:off x="4572000" y="2708280"/>
                <a:ext cx="1584360" cy="6015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43280" y="2708280"/>
                <a:ext cx="1584360" cy="601560"/>
              </a:xfrm>
              <a:prstGeom prst="rect">
                <a:avLst/>
              </a:prstGeom>
              <a:solidFill>
                <a:srgbClr val="018175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>
            <a:off x="468360" y="5157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cc00"/>
                </a:solidFill>
                <a:latin typeface="Arial"/>
                <a:cs typeface="PT Bold Heading"/>
              </a:rPr>
              <a:t>فاللون الأخضر المصف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PT Bold Heading"/>
              </a:rPr>
              <a:t> يكون بارداَ إذا جاور </a:t>
            </a: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ون الأحم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PT Bold Heading"/>
              </a:rPr>
              <a:t> ، ويكون  ساخناَ إذا جاور </a:t>
            </a:r>
            <a:r>
              <a:rPr b="0" lang="hi-IN" sz="2400" spc="-1" strike="noStrike">
                <a:solidFill>
                  <a:srgbClr val="3333ff"/>
                </a:solidFill>
                <a:latin typeface="Arial"/>
                <a:cs typeface="PT Bold Heading"/>
              </a:rPr>
              <a:t>اللون الأزر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44360" y="429372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ahoma"/>
                <a:cs typeface="PT Bold Heading"/>
              </a:rPr>
              <a:t>ينبغي إدراك أن برودة الألوان و سخونتها أمر نسبي بين الألوا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300720" y="2492280"/>
            <a:ext cx="1441440" cy="1376280"/>
            <a:chOff x="6300720" y="2492280"/>
            <a:chExt cx="1441440" cy="1376280"/>
          </a:xfrm>
        </p:grpSpPr>
        <p:sp>
          <p:nvSpPr>
            <p:cNvPr id="109" name=""/>
            <p:cNvSpPr/>
            <p:nvPr/>
          </p:nvSpPr>
          <p:spPr>
            <a:xfrm>
              <a:off x="6445080" y="2492280"/>
              <a:ext cx="1079640" cy="863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00720" y="350028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اخضر مصف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187280" y="2492280"/>
            <a:ext cx="1441800" cy="1376280"/>
            <a:chOff x="1187280" y="2492280"/>
            <a:chExt cx="1441800" cy="1376280"/>
          </a:xfrm>
        </p:grpSpPr>
        <p:sp>
          <p:nvSpPr>
            <p:cNvPr id="112" name=""/>
            <p:cNvSpPr/>
            <p:nvPr/>
          </p:nvSpPr>
          <p:spPr>
            <a:xfrm>
              <a:off x="1403280" y="2492280"/>
              <a:ext cx="1079640" cy="863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87280" y="3500280"/>
              <a:ext cx="144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أزرق أساسي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5ffff"/>
                </a:solidFill>
                <a:latin typeface="Tahoma"/>
                <a:cs typeface="PT Bold Heading"/>
              </a:rPr>
              <a:t>تأثيرات الألوان الساخنة و الباردة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87600" y="2469960"/>
            <a:ext cx="411156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PT Bold Heading"/>
              </a:rPr>
              <a:t>    </a:t>
            </a:r>
            <a:r>
              <a:rPr b="0" lang="hi-IN" sz="3200" spc="-1" strike="noStrike">
                <a:solidFill>
                  <a:srgbClr val="ffffff"/>
                </a:solidFill>
                <a:latin typeface="Tahoma"/>
                <a:cs typeface="PT Bold Heading"/>
              </a:rPr>
              <a:t>تلعب دوراَ في الإحسا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PT Bold Heading"/>
              </a:rPr>
              <a:t>    </a:t>
            </a:r>
            <a:r>
              <a:rPr b="0" lang="hi-IN" sz="3200" spc="-1" strike="noStrike">
                <a:solidFill>
                  <a:srgbClr val="ffffff"/>
                </a:solidFill>
                <a:latin typeface="Tahoma"/>
                <a:cs typeface="PT Bold Heading"/>
              </a:rPr>
              <a:t>بالعمق الفراغي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PT Bold Heading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8172360" y="2295360"/>
            <a:ext cx="360360" cy="300240"/>
          </a:xfrm>
          <a:prstGeom prst="star5">
            <a:avLst/>
          </a:prstGeom>
          <a:solidFill>
            <a:srgbClr val="2e2e4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3860640"/>
            <a:ext cx="4608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PT Bold Heading"/>
              </a:rPr>
              <a:t>فالألوان الساخنة تظهر اقرب للمشاهد 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PT Bold Heading"/>
              </a:rPr>
              <a:t>و اكثر تقدماَ من الألوان البارد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PT Bold Heading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5197320"/>
            <a:ext cx="7775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PT Bold Heading"/>
              </a:rPr>
              <a:t> تعمل الألوان الساخنة و الباردة على الاحساس بالبعد الثالث رغ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PT Bold Heading"/>
              </a:rPr>
              <a:t>تواجدها على سطح ذو بعدين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PT Bold Heading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PT Bold Heading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971640" y="1557360"/>
            <a:ext cx="2736720" cy="3384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459640" y="4005360"/>
            <a:ext cx="144720" cy="1443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459640" y="5373720"/>
            <a:ext cx="144720" cy="1443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22636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PT Bold Heading"/>
              </a:rPr>
              <a:t>    </a:t>
            </a:r>
            <a:r>
              <a:rPr b="0" lang="hi-IN" sz="2800" spc="-1" strike="noStrike">
                <a:solidFill>
                  <a:srgbClr val="ffffff"/>
                </a:solidFill>
                <a:latin typeface="Tahoma"/>
                <a:cs typeface="PT Bold Heading"/>
              </a:rPr>
              <a:t>تزداد الألوان الساخنة تقدماَ و بروزاَ ، بعكس الألوان الباردة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PT Bold Heading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8244000" y="722160"/>
            <a:ext cx="360360" cy="300240"/>
          </a:xfrm>
          <a:prstGeom prst="star5">
            <a:avLst/>
          </a:prstGeom>
          <a:solidFill>
            <a:srgbClr val="2e2e4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4720" y="484488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PT Bold Heading"/>
              </a:rPr>
              <a:t>تظهر الألوان الساخنة في التصميم أو التكوين أكبر مساحة ، حيث أن لها خاصية الانتشار البصر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0360" y="5680080"/>
            <a:ext cx="83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PT Bold Heading"/>
              </a:rPr>
              <a:t>الألوان البارة في التصميم أو التكوين تظهر أقل من مساحتها الحقيقية ، حيث أن لها صفة  التقلص البصر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72000" y="1916280"/>
            <a:ext cx="3456000" cy="2395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55640" y="1916280"/>
            <a:ext cx="340668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09:59:52Z</dcterms:created>
  <dc:creator>compu shop</dc:creator>
  <dc:description/>
  <dc:language>en-US</dc:language>
  <cp:lastModifiedBy>User</cp:lastModifiedBy>
  <dcterms:modified xsi:type="dcterms:W3CDTF">2007-12-07T19:46:37Z</dcterms:modified>
  <cp:revision>8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