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drumroll.wav" ContentType="audio/x-wav"/>
  <Override PartName="/ppt/media/applause.wav" ContentType="audio/x-wav"/>
  <Override PartName="/ppt/media/push.wav" ContentType="audio/x-wav"/>
  <Override PartName="/ppt/media/wind.wav" ContentType="audio/x-wav"/>
  <Override PartName="/ppt/media/coin.wav" ContentType="audio/x-wav"/>
  <Override PartName="/ppt/media/voltage.wav" ContentType="audio/x-wav"/>
  <Override PartName="/ppt/media/chimes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175-70D7-4EB5-A87A-FB10F78C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C29-268C-489D-AD3A-FA0E342E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0AF-B2B1-46CC-A828-8EA2DD79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325-A2BF-4A5C-9035-540061A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2DF2-DCB2-4DFF-82FC-EC763521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1DF9-31C1-4399-B685-D5D653C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B8BA-436E-4583-98A9-0795937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8E3E-32C1-4053-A5EF-D620914C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43B9-D32C-466A-B67B-1965B504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ABA-0EF2-4BC8-9D0F-E61083F8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6501-C720-4A13-8692-9AA0F55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087-229B-43A1-BDE1-6A701A57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C7D5-B91A-4BE1-A70B-344403E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2BF4-C87C-4017-8DF1-6C408A2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D876-D80A-4AFF-AC2C-39569F48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1F0-5CA5-44DE-861A-F29EDD86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1C5F-5672-4B7B-923F-0ECAFAE8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29D-AA5F-477D-B83C-EC32826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7BE-BA84-4BA0-B675-9C1E890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392-1621-425B-860E-27B7AAF2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85F-FA42-44D9-A5F3-751A5BA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C23-3F56-4C11-B1E7-9C93C15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9CB-482B-4798-9F10-4CB8DE3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9CB-0266-4229-B4BD-37014CE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BE0-F29C-4BCB-9098-B4DE6820F8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A44-A170-464E-A133-69C4124687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drumroll.wav"/><Relationship Id="rId3" Type="http://schemas.openxmlformats.org/officeDocument/2006/relationships/audio" Target="../media/push.wav"/><Relationship Id="rId4" Type="http://schemas.openxmlformats.org/officeDocument/2006/relationships/audio" Target="../media/drumroll.wav"/><Relationship Id="rId5" Type="http://schemas.openxmlformats.org/officeDocument/2006/relationships/audio" Target="../media/push.wav"/><Relationship Id="rId6" Type="http://schemas.openxmlformats.org/officeDocument/2006/relationships/audio" Target="../media/drumroll.wav"/><Relationship Id="rId7" Type="http://schemas.openxmlformats.org/officeDocument/2006/relationships/audio" Target="../media/push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voltage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oin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oin.wav"/><Relationship Id="rId17" Type="http://schemas.openxmlformats.org/officeDocument/2006/relationships/audio" Target="../media/chimes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cashreg.wav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700" spc="-1" strike="noStrike">
                <a:solidFill>
                  <a:srgbClr val="ffffcc"/>
                </a:solidFill>
                <a:latin typeface="Arial"/>
                <a:cs typeface="Monotype Koufi"/>
              </a:rPr>
              <a:t>الألوان المكملة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3640" y="5257440"/>
            <a:ext cx="845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aeaea"/>
                </a:solidFill>
                <a:latin typeface="Verdana"/>
                <a:cs typeface="PT Bold Heading"/>
              </a:rPr>
              <a:t>هي الألوان المتقابلة مع الألوان الأساسية على الدائرة اللونية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808440" y="2092320"/>
            <a:ext cx="1555560" cy="1555920"/>
          </a:xfrm>
          <a:prstGeom prst="flowChartMerg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3672000">
            <a:off x="4519080" y="2552760"/>
            <a:ext cx="1447920" cy="1447920"/>
          </a:xfrm>
          <a:prstGeom prst="flowChartMerge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7945400">
            <a:off x="3187440" y="2552400"/>
            <a:ext cx="1473120" cy="1473120"/>
          </a:xfrm>
          <a:prstGeom prst="flowChartMerg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255200">
            <a:off x="4470120" y="3258720"/>
            <a:ext cx="1584360" cy="1584360"/>
          </a:xfrm>
          <a:prstGeom prst="flowChartMerg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4387400">
            <a:off x="3130200" y="3257640"/>
            <a:ext cx="1541520" cy="1541520"/>
          </a:xfrm>
          <a:prstGeom prst="flowChartMerg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67120" y="3660480"/>
            <a:ext cx="1424160" cy="1423800"/>
          </a:xfrm>
          <a:prstGeom prst="flowChartMerge">
            <a:avLst/>
          </a:prstGeom>
          <a:solidFill>
            <a:srgbClr val="99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3171960"/>
            <a:ext cx="865080" cy="865080"/>
          </a:xfrm>
          <a:prstGeom prst="flowChartConnector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0120" y="327024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Verdana"/>
                <a:cs typeface="Monotype Koufi"/>
              </a:rPr>
              <a:t>الألوان المكمل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PT Bold Heading"/>
              </a:rPr>
              <a:t> و سمي باللون المكمل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4984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eaeaea"/>
                </a:solidFill>
                <a:latin typeface="Verdana"/>
                <a:cs typeface="PT Bold Heading"/>
              </a:rPr>
              <a:t>لأنه يتكون من اللونيين الأساسيين الأخريين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515280" y="2060640"/>
            <a:ext cx="100944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5280" y="2997360"/>
            <a:ext cx="10094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5280" y="3932280"/>
            <a:ext cx="100944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2060640"/>
            <a:ext cx="1009440" cy="720720"/>
          </a:xfrm>
          <a:prstGeom prst="rect">
            <a:avLst/>
          </a:prstGeom>
          <a:solidFill>
            <a:srgbClr val="99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997360"/>
            <a:ext cx="100944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3932280"/>
            <a:ext cx="100944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3065400"/>
            <a:ext cx="792360" cy="622440"/>
          </a:xfrm>
          <a:prstGeom prst="rect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4030560"/>
            <a:ext cx="792360" cy="62244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0200" y="3065400"/>
            <a:ext cx="792360" cy="62244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0200" y="4030560"/>
            <a:ext cx="792360" cy="622440"/>
          </a:xfrm>
          <a:prstGeom prst="rect">
            <a:avLst/>
          </a:pr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2205000"/>
            <a:ext cx="720720" cy="503280"/>
          </a:xfrm>
          <a:prstGeom prst="leftArrow">
            <a:avLst>
              <a:gd name="adj1" fmla="val 50000"/>
              <a:gd name="adj2" fmla="val 35801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3141720"/>
            <a:ext cx="720720" cy="503280"/>
          </a:xfrm>
          <a:prstGeom prst="leftArrow">
            <a:avLst>
              <a:gd name="adj1" fmla="val 50000"/>
              <a:gd name="adj2" fmla="val 35801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4078440"/>
            <a:ext cx="720720" cy="502920"/>
          </a:xfrm>
          <a:prstGeom prst="leftArrow">
            <a:avLst>
              <a:gd name="adj1" fmla="val 50000"/>
              <a:gd name="adj2" fmla="val 35827"/>
            </a:avLst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71800" y="2378160"/>
            <a:ext cx="33984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e855b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5e855b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71800" y="3284640"/>
            <a:ext cx="33984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e855b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5e855b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71800" y="4230720"/>
            <a:ext cx="33984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e855b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5e855b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2060640"/>
            <a:ext cx="792360" cy="622080"/>
          </a:xfrm>
          <a:prstGeom prst="rect">
            <a:avLst/>
          </a:pr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0200" y="2060640"/>
            <a:ext cx="792360" cy="622080"/>
          </a:xfrm>
          <a:prstGeom prst="rect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68360" y="2276640"/>
            <a:ext cx="28764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68360" y="3213000"/>
            <a:ext cx="28764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68360" y="4149720"/>
            <a:ext cx="28764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148080" y="2979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  <a:cs typeface="PT Bold Heading"/>
              </a:rPr>
              <a:t>الألوان الأسـاسـية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4023360" y="301536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  <a:cs typeface="PT Bold Heading"/>
              </a:rPr>
              <a:t>الألوان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PT Bold Heading"/>
              </a:rPr>
              <a:t> </a:t>
            </a:r>
            <a:r>
              <a:rPr b="0" lang="hi-IN" sz="2400" spc="-1" strike="noStrike">
                <a:solidFill>
                  <a:srgbClr val="000000"/>
                </a:solidFill>
                <a:latin typeface="Verdana"/>
                <a:cs typeface="PT Bold Heading"/>
              </a:rPr>
              <a:t>المـكمـــلة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7:49:25Z</dcterms:created>
  <dc:creator>compu shop</dc:creator>
  <dc:description/>
  <dc:language>en-US</dc:language>
  <cp:lastModifiedBy>User</cp:lastModifiedBy>
  <dcterms:modified xsi:type="dcterms:W3CDTF">2007-12-07T19:42:18Z</dcterms:modified>
  <cp:revision>3</cp:revision>
  <dc:subject/>
  <dc:title>الألوان المكمل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