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push.wav" ContentType="audio/x-wav"/>
  <Override PartName="/ppt/media/cashreg.wav" ContentType="audio/x-wav"/>
  <Override PartName="/ppt/media/whoosh.wav" ContentType="audio/x-wav"/>
  <Override PartName="/ppt/media/click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121-2280-4A9B-8616-E4FE4DBB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D89-ABF6-4041-BC3B-5748E777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49D-D308-4948-AB62-13F53628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797-1A71-40B6-8D1B-567E76DB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1FDF-4AEC-48CA-AACA-A65F8892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5AF0-5E64-4508-B81B-4061BE99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944-6DB6-4CF4-9489-D868C862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79D1-C6EC-440A-B382-FE51392F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0317-BC35-475E-8590-01A30A21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737B-3F90-4678-A5D3-CE9BECF9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D30B-74DA-4DE4-9927-005A02D4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822-5570-481E-A33F-FF2A7BCC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8555-35E5-462B-9C0A-8896571F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79CD-0E60-4A19-93A0-3E3334DE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67A1-9AFC-446E-8B47-00BC2C68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B4D7-580B-4A83-BC6D-722E562D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A284-B19A-4430-83DC-517397E5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B3C-467C-41C3-BB1C-22FDB36E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F94-81BF-4759-8D36-4E0AD0CD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89F-63A6-4B93-A6CA-C520B76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DDC-2D5D-4D3B-BFC6-B3981EE5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D22-A7B3-4A77-B915-AB04C7E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652-70D4-4831-9140-9AA2C1C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7EA-4ED7-4542-AD3B-7022F0DC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075-2A19-4B09-8F76-5D45D8A3E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FDD0-3D38-41F6-AF3C-6A29584A1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push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pu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click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click.wav"/><Relationship Id="rId15" Type="http://schemas.openxmlformats.org/officeDocument/2006/relationships/audio" Target="../media/whoosh.wav"/><Relationship Id="rId16" Type="http://schemas.openxmlformats.org/officeDocument/2006/relationships/audio" Target="../media/click.wav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whoosh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cashreg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whoosh.wav"/><Relationship Id="rId10" Type="http://schemas.openxmlformats.org/officeDocument/2006/relationships/audio" Target="../media/cashreg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whoosh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53840" y="764640"/>
            <a:ext cx="403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a26d18"/>
                </a:solidFill>
                <a:latin typeface="Times New Roman"/>
                <a:cs typeface="PT Bold Heading"/>
              </a:rPr>
              <a:t>التباين اللوني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10920" y="2060280"/>
            <a:ext cx="795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قصد به الاختلاف الواضح بين الألوان إذا ما تجاورت ، و يكون الاختلاف في </a:t>
            </a:r>
            <a:r>
              <a:rPr b="0" lang="hi-IN" sz="3200" spc="-1" strike="noStrike">
                <a:solidFill>
                  <a:srgbClr val="714c11"/>
                </a:solidFill>
                <a:latin typeface="Times New Roman"/>
                <a:cs typeface="PT Bold Heading"/>
              </a:rPr>
              <a:t>قيمة اللو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، أو في </a:t>
            </a:r>
            <a:r>
              <a:rPr b="0" lang="hi-IN" sz="3200" spc="-1" strike="noStrike">
                <a:solidFill>
                  <a:srgbClr val="714c11"/>
                </a:solidFill>
                <a:latin typeface="Times New Roman"/>
                <a:cs typeface="PT Bold Heading"/>
              </a:rPr>
              <a:t>كنه اللو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3284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714c11"/>
                </a:solidFill>
                <a:latin typeface="Times New Roman"/>
                <a:cs typeface="PT Bold Heading"/>
              </a:rPr>
              <a:t>و يحدث خداع بصري للون إذا ما تجاورت الألوان المختلفة في الكنه أو القي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426708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714c11"/>
                </a:solidFill>
                <a:latin typeface="Times New Roman"/>
                <a:cs typeface="PT Bold Heading"/>
              </a:rPr>
              <a:t>التباين في الدرجة ( قيمة اللو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4870440"/>
            <a:ext cx="712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  و نعني بها تلك الظاهرة التي تخص درجة لون بالنسبة لدرجة لون اخر متجاور ، والألوان إذا ما اختلف ترتيبها المنطقي في الدرجة ، فأن الفاتح منها يظهر أفتح مما هو عليه في الحقيقة ، و كذلك الغامق يظهر أكثر عمقان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77292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a26d18"/>
                </a:solidFill>
                <a:latin typeface="Times New Roman"/>
                <a:cs typeface="PT Bold Heading"/>
              </a:rPr>
              <a:t>بمعنى أخر إذا ما و ضعنا لون من أول سلم التدرج بجوار لون من أخر السلم يظهر التباين</a:t>
            </a: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03640" y="2104560"/>
            <a:ext cx="3322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على النحو الآتي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2997360"/>
            <a:ext cx="1368360" cy="99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3218040"/>
            <a:ext cx="936720" cy="57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997360"/>
            <a:ext cx="1368360" cy="995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2997360"/>
            <a:ext cx="1368360" cy="995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6200" y="3213000"/>
            <a:ext cx="93672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213000"/>
            <a:ext cx="93816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4429080"/>
            <a:ext cx="75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المساحة الصغيرة البيضاء على أرضية سوداء ، تظهر أكثر بياضاً منها على أرضية رمادية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44000" y="4508640"/>
            <a:ext cx="215640" cy="204480"/>
          </a:xfrm>
          <a:prstGeom prst="star5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44000" y="4970520"/>
            <a:ext cx="215640" cy="204840"/>
          </a:xfrm>
          <a:prstGeom prst="star5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886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المساحة الصغيرة السوداء على أرضية بيضاء ، تظهر أكثر سواداً منها على ارضية رمادية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44000" y="5462640"/>
            <a:ext cx="215640" cy="204840"/>
          </a:xfrm>
          <a:prstGeom prst="star5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5391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المساحة البيضاء على أرضية سوداء لا تظهر فقط أكثر بياضاً ، و لكن تبدو أكبر من المساحة السوداء بنفس الحجم والمقاس على ارضية بيضاء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0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4720" y="2997360"/>
            <a:ext cx="1368360" cy="995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3213000"/>
            <a:ext cx="93672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252360" y="1268280"/>
            <a:ext cx="8075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وضع الأبيض بجوار لون ما يؤدي إلى رفع من درجة اللون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82920" y="2205000"/>
            <a:ext cx="1655640" cy="11588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2205000"/>
            <a:ext cx="1656000" cy="115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3933720"/>
            <a:ext cx="7199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وضع الرمادي بجوار لون ما يؤدي إلى زيادة شدة أو نقاء  اللون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4581360"/>
            <a:ext cx="1656000" cy="1159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581360"/>
            <a:ext cx="1656000" cy="1159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56720" y="1413000"/>
            <a:ext cx="215640" cy="204840"/>
          </a:xfrm>
          <a:prstGeom prst="star5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40600" y="4076640"/>
            <a:ext cx="201600" cy="204840"/>
          </a:xfrm>
          <a:prstGeom prst="star5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7640" y="2775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a26d18"/>
                </a:solidFill>
                <a:latin typeface="Times New Roman"/>
                <a:cs typeface="PT Bold Heading"/>
              </a:rPr>
              <a:t>التباين في كنه اللون 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131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    هي تلك الظاهرة التي تختص بتغيير كنه لون بالنسبة لكنه لون آخر يجاوره و مساوياً له في الدرجة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PT Bold Heading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44000" y="2438280"/>
            <a:ext cx="215640" cy="204840"/>
          </a:xfrm>
          <a:prstGeom prst="star5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367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إذا ما تجاور لونان متكاملان أحدهما ساخن و الأخر بارد ، يكون الأول أكثر سخونة والثاني أكثر برود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3827520"/>
            <a:ext cx="215640" cy="204840"/>
          </a:xfrm>
          <a:prstGeom prst="star5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378936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إذا ما تجاور لونان ساخنان فنجدهما يبردان بعضهما البعض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44000" y="5157720"/>
            <a:ext cx="215640" cy="204840"/>
          </a:xfrm>
          <a:prstGeom prst="star5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50864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663300"/>
                </a:solidFill>
                <a:latin typeface="Times New Roman"/>
                <a:cs typeface="PT Bold Heading"/>
              </a:rPr>
              <a:t>إذا ما تجاور لونان باردان فإنهما يسخنان بعضهما البعض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2925720"/>
            <a:ext cx="1008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925720"/>
            <a:ext cx="1008000" cy="647640"/>
          </a:xfrm>
          <a:prstGeom prst="rect">
            <a:avLst/>
          </a:prstGeom>
          <a:solidFill>
            <a:srgbClr val="00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4259160"/>
            <a:ext cx="100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4259160"/>
            <a:ext cx="1008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5518080"/>
            <a:ext cx="100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5518080"/>
            <a:ext cx="1008000" cy="647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7:57:22Z</dcterms:created>
  <dc:creator>compu shop</dc:creator>
  <dc:description/>
  <dc:language>en-US</dc:language>
  <cp:lastModifiedBy>User</cp:lastModifiedBy>
  <dcterms:modified xsi:type="dcterms:W3CDTF">2007-12-07T19:40:39Z</dcterms:modified>
  <cp:revision>13</cp:revision>
  <dc:subject/>
  <dc:title>التباين اللون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