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8%A7%D9%84%D9%8A%D9%88%D8%AA%D9%88%D8%A8%D9%8A%D8%A7%D8%8C%20%D8%AA%D9%88%D9%82%D9%81%20%D8%AD%D8%B1%D8%AC.wav" ContentType="audio/x-wav"/>
  <Override PartName="/ppt/media/WHOOSH.WAV" ContentType="audio/x-wav"/>
  <Override PartName="/ppt/media/Jungle%20Question.wav" ContentType="audio/x-wav"/>
  <Override PartName="/ppt/media/REMINDER.WAV" ContentType="audio/x-wav"/>
  <Override PartName="/ppt/media/TYPE.WAV" ContentType="audio/x-wav"/>
  <Override PartName="/ppt/media/image4.png" ContentType="image/png"/>
  <Override PartName="/ppt/media/DRIVEBY.WAV" ContentType="audio/x-wav"/>
  <Override PartName="/ppt/media/image6.png" ContentType="image/png"/>
  <Override PartName="/ppt/media/LASER.WAV" ContentType="audio/x-wav"/>
  <Override PartName="/ppt/media/image5.wmf" ContentType="image/x-wmf"/>
  <Override PartName="/ppt/media/image3.wmf" ContentType="image/x-wmf"/>
  <Override PartName="/ppt/media/image9.wmf" ContentType="image/x-wmf"/>
  <Override PartName="/ppt/media/Musica%20Maximize.wav" ContentType="audio/x-wav"/>
  <Override PartName="/ppt/media/image8.jpeg" ContentType="image/jpeg"/>
  <Override PartName="/ppt/media/NOTIFY.WAV" ContentType="audio/x-wav"/>
  <Override PartName="/ppt/media/image7.jpeg" ContentType="image/jpeg"/>
  <Override PartName="/ppt/media/Robotz%20Asterisk.wav" ContentType="audio/x-wav"/>
  <Override PartName="/ppt/media/Musica%20Menu%20Popup.wav" ContentType="audio/x-wav"/>
  <Override PartName="/ppt/media/Musica%20Exclamation.wav" ContentType="audio/x-wav"/>
  <Override PartName="/ppt/media/image1.jpeg" ContentType="image/jpeg"/>
  <Override PartName="/ppt/media/projctor.wav" ContentType="audio/x-wav"/>
  <Override PartName="/ppt/media/CAMERA.WAV" ContentType="audio/x-wav"/>
  <Override PartName="/ppt/media/image2.jpeg" ContentType="image/jpeg"/>
  <Override PartName="/ppt/media/Musica%20Menu%20Comma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A983-B7FC-4476-A812-8B6B0F36F2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A50-DDE0-4E21-B05A-020C8B334B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2433-FE4D-478E-BF43-25E9010BC7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680E-C9F0-461F-B6FF-FA5CFF3AFB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4" descr="BASEB009"/>
          <p:cNvPicPr/>
          <p:nvPr/>
        </p:nvPicPr>
        <p:blipFill>
          <a:blip r:embed="rId1"/>
          <a:stretch/>
        </p:blipFill>
        <p:spPr>
          <a:xfrm>
            <a:off x="1509840" y="2805120"/>
            <a:ext cx="3838320" cy="35337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076-E162-4E81-BD2D-6428D007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996-B033-4F80-BAE8-C3842F63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336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336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4CD-1070-49FE-AFA8-6B7A1B1F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594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968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594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968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FF9-D473-4DA6-BEBF-CD14CC95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BAD-226F-4B50-A151-7CCE3808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5E4-9E4F-4B0B-A517-A8EE6865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336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B97-2D85-44DB-8C00-29688A38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0AE-C062-4DC9-8F79-1F635360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397-CC17-4417-A423-DA213DF3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3368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69D-635E-497B-A16F-9C3BE19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336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3368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44D-507E-4B04-A25D-02F866A8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3368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084-B110-4C17-94D2-F90BBDA0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790C-4DCA-48AB-94EE-46764C784A6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REMINDER.WAV"/><Relationship Id="rId5" Type="http://schemas.openxmlformats.org/officeDocument/2006/relationships/audio" Target="../media/LASER.WAV"/><Relationship Id="rId6" Type="http://schemas.openxmlformats.org/officeDocument/2006/relationships/audio" Target="../media/WHOOSH.WAV"/><Relationship Id="rId7" Type="http://schemas.openxmlformats.org/officeDocument/2006/relationships/audio" Target="../media/&#1575;&#1604;&#1610;&#1608;&#1578;&#1608;&#1576;&#1610;&#1575;&#1548;%20&#1578;&#1608;&#1602;&#1601;%20&#1581;&#1585;&#1580;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WHOOSH.WAV"/><Relationship Id="rId5" Type="http://schemas.openxmlformats.org/officeDocument/2006/relationships/audio" Target="../media/REMIND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REMINDER.WAV"/><Relationship Id="rId4" Type="http://schemas.openxmlformats.org/officeDocument/2006/relationships/audio" Target="../media/CAMERA.WAV"/><Relationship Id="rId5" Type="http://schemas.openxmlformats.org/officeDocument/2006/relationships/audio" Target="../media/DRIVEBY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REMINDER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REMINDER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REMINDER.WAV"/><Relationship Id="rId4" Type="http://schemas.openxmlformats.org/officeDocument/2006/relationships/audio" Target="../media/TYPE.WAV"/><Relationship Id="rId5" Type="http://schemas.openxmlformats.org/officeDocument/2006/relationships/audio" Target="../media/REMINDER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REMINDER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file:///tmp/home/.config/libreoffice/4/user/gallery/DRIVEBY.WAV" TargetMode="External"/><Relationship Id="rId3" Type="http://schemas.microsoft.com/office/2007/relationships/media" Target="file:///tmp/home/.config/libreoffice/4/user/gallery/DRIVEBY.WAV" TargetMode="External"/><Relationship Id="rId4" Type="http://schemas.openxmlformats.org/officeDocument/2006/relationships/image" Target="../media/image6.png"/><Relationship Id="rId5" Type="http://schemas.openxmlformats.org/officeDocument/2006/relationships/audio" Target="../media/CAMERA.WAV"/><Relationship Id="rId6" Type="http://schemas.openxmlformats.org/officeDocument/2006/relationships/audio" Target="../media/REMIND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LASE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Musica%20Exclamation.wav"/><Relationship Id="rId4" Type="http://schemas.openxmlformats.org/officeDocument/2006/relationships/audio" Target="../media/TYPE.WAV"/><Relationship Id="rId5" Type="http://schemas.openxmlformats.org/officeDocument/2006/relationships/audio" Target="../media/Musica%20Menu%20Popup.wav"/><Relationship Id="rId6" Type="http://schemas.openxmlformats.org/officeDocument/2006/relationships/audio" Target="../media/&#1575;&#1604;&#1610;&#1608;&#1578;&#1608;&#1576;&#1610;&#1575;&#1548;%20&#1578;&#1608;&#1602;&#1601;%20&#1581;&#1585;&#1580;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Musica%20Menu%20Popup.wav"/><Relationship Id="rId4" Type="http://schemas.openxmlformats.org/officeDocument/2006/relationships/audio" Target="../media/Musica%20Menu%20Popup.wav"/><Relationship Id="rId5" Type="http://schemas.openxmlformats.org/officeDocument/2006/relationships/audio" Target="../media/Robotz%20Asterisk.wav"/><Relationship Id="rId6" Type="http://schemas.openxmlformats.org/officeDocument/2006/relationships/audio" Target="../media/&#1575;&#1604;&#1610;&#1608;&#1578;&#1608;&#1576;&#1610;&#1575;&#1548;%20&#1578;&#1608;&#1602;&#1601;%20&#1581;&#1585;&#1580;.wav"/><Relationship Id="rId7" Type="http://schemas.openxmlformats.org/officeDocument/2006/relationships/audio" Target="../media/&#1575;&#1604;&#1610;&#1608;&#1578;&#1608;&#1576;&#1610;&#1575;&#1548;%20&#1578;&#1608;&#1602;&#1601;%20&#1581;&#1585;&#1580;.wav"/><Relationship Id="rId8" Type="http://schemas.openxmlformats.org/officeDocument/2006/relationships/audio" Target="../media/&#1575;&#1604;&#1610;&#1608;&#1578;&#1608;&#1576;&#1610;&#1575;&#1548;%20&#1578;&#1608;&#1602;&#1601;%20&#1581;&#1585;&#1580;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Musica%20Menu%20Popup.wav"/><Relationship Id="rId4" Type="http://schemas.openxmlformats.org/officeDocument/2006/relationships/audio" Target="../media/&#1575;&#1604;&#1610;&#1608;&#1578;&#1608;&#1576;&#1610;&#1575;&#1548;%20&#1578;&#1608;&#1602;&#1601;%20&#1581;&#1585;&#1580;.wav"/><Relationship Id="rId5" Type="http://schemas.openxmlformats.org/officeDocument/2006/relationships/audio" Target="../media/Robotz%20Asterisk.wav"/><Relationship Id="rId6" Type="http://schemas.openxmlformats.org/officeDocument/2006/relationships/audio" Target="../media/LASER.WAV"/><Relationship Id="rId7" Type="http://schemas.openxmlformats.org/officeDocument/2006/relationships/audio" Target="../media/TYPE.WAV"/><Relationship Id="rId8" Type="http://schemas.openxmlformats.org/officeDocument/2006/relationships/audio" Target="../media/Robotz%20Asterisk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&#1575;&#1604;&#1610;&#1608;&#1578;&#1608;&#1576;&#1610;&#1575;&#1548;%20&#1578;&#1608;&#1602;&#1601;%20&#1581;&#1585;&#1580;.wav"/><Relationship Id="rId4" Type="http://schemas.openxmlformats.org/officeDocument/2006/relationships/audio" Target="../media/TYPE.WAV"/><Relationship Id="rId5" Type="http://schemas.openxmlformats.org/officeDocument/2006/relationships/audio" Target="../media/&#1575;&#1604;&#1610;&#1608;&#1578;&#1608;&#1576;&#1610;&#1575;&#1548;%20&#1578;&#1608;&#1602;&#1601;%20&#1581;&#1585;&#1580;.wav"/><Relationship Id="rId6" Type="http://schemas.openxmlformats.org/officeDocument/2006/relationships/audio" Target="../media/TYPE.WAV"/><Relationship Id="rId7" Type="http://schemas.openxmlformats.org/officeDocument/2006/relationships/audio" Target="../media/&#1575;&#1604;&#1610;&#1608;&#1578;&#1608;&#1576;&#1610;&#1575;&#1548;%20&#1578;&#1608;&#1602;&#1601;%20&#1581;&#1585;&#1580;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NOTIFY.WAV"/><Relationship Id="rId4" Type="http://schemas.openxmlformats.org/officeDocument/2006/relationships/audio" Target="../media/Robotz%20Asterisk.wav"/><Relationship Id="rId5" Type="http://schemas.openxmlformats.org/officeDocument/2006/relationships/audio" Target="../media/Musica%20Menu%20Popup.wav"/><Relationship Id="rId6" Type="http://schemas.openxmlformats.org/officeDocument/2006/relationships/audio" Target="../media/Jungle%20Question.wav"/><Relationship Id="rId7" Type="http://schemas.openxmlformats.org/officeDocument/2006/relationships/audio" Target="../media/Musica%20Maximize.wav"/><Relationship Id="rId8" Type="http://schemas.openxmlformats.org/officeDocument/2006/relationships/audio" Target="../media/Musica%20Menu%20Command.wav"/><Relationship Id="rId9" Type="http://schemas.openxmlformats.org/officeDocument/2006/relationships/audio" Target="../media/&#1575;&#1604;&#1610;&#1608;&#1578;&#1608;&#1576;&#1610;&#1575;&#1548;%20&#1578;&#1608;&#1602;&#1601;%20&#1581;&#1585;&#1580;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&#1575;&#1604;&#1610;&#1608;&#1578;&#1608;&#1576;&#1610;&#1575;&#1548;%20&#1578;&#1608;&#1602;&#1601;%20&#1581;&#1585;&#1580;.wav"/><Relationship Id="rId4" Type="http://schemas.openxmlformats.org/officeDocument/2006/relationships/audio" Target="../media/TYPE.WAV"/><Relationship Id="rId5" Type="http://schemas.openxmlformats.org/officeDocument/2006/relationships/audio" Target="../media/NOTIFY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Robotz%20Asterisk.wav"/><Relationship Id="rId10" Type="http://schemas.openxmlformats.org/officeDocument/2006/relationships/audio" Target="../media/TYPE.WAV"/><Relationship Id="rId11" Type="http://schemas.openxmlformats.org/officeDocument/2006/relationships/audio" Target="../media/LASER.WAV"/><Relationship Id="rId12" Type="http://schemas.openxmlformats.org/officeDocument/2006/relationships/audio" Target="../media/&#1575;&#1604;&#1610;&#1608;&#1578;&#1608;&#1576;&#1610;&#1575;&#1548;%20&#1578;&#1608;&#1602;&#1601;%20&#1581;&#1585;&#1580;.wav"/><Relationship Id="rId13" Type="http://schemas.openxmlformats.org/officeDocument/2006/relationships/audio" Target="../media/TYPE.WAV"/><Relationship Id="rId14" Type="http://schemas.openxmlformats.org/officeDocument/2006/relationships/audio" Target="../media/Robotz%20Asterisk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Musica%20Exclamation.wav"/><Relationship Id="rId4" Type="http://schemas.openxmlformats.org/officeDocument/2006/relationships/audio" Target="../media/Musica%20Menu%20Popup.wav"/><Relationship Id="rId5" Type="http://schemas.openxmlformats.org/officeDocument/2006/relationships/audio" Target="../media/Musica%20Maximize.wav"/><Relationship Id="rId6" Type="http://schemas.openxmlformats.org/officeDocument/2006/relationships/audio" Target="../media/Musica%20Menu%20Command.wav"/><Relationship Id="rId7" Type="http://schemas.openxmlformats.org/officeDocument/2006/relationships/audio" Target="../media/Robotz%20Asterisk.wav"/><Relationship Id="rId8" Type="http://schemas.openxmlformats.org/officeDocument/2006/relationships/audio" Target="../media/Musica%20Maximize.wav"/><Relationship Id="rId9" Type="http://schemas.openxmlformats.org/officeDocument/2006/relationships/audio" Target="../media/Jungle%20Question.wav"/><Relationship Id="rId10" Type="http://schemas.openxmlformats.org/officeDocument/2006/relationships/audio" Target="../media/Musica%20Maximiz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3.wmf"/><Relationship Id="rId6" Type="http://schemas.openxmlformats.org/officeDocument/2006/relationships/audio" Target="../media/CAMERA.WAV"/><Relationship Id="rId7" Type="http://schemas.openxmlformats.org/officeDocument/2006/relationships/audio" Target="../media/NOTIFY.WAV"/><Relationship Id="rId8" Type="http://schemas.openxmlformats.org/officeDocument/2006/relationships/audio" Target="../media/NOTIFY.WAV"/><Relationship Id="rId9" Type="http://schemas.openxmlformats.org/officeDocument/2006/relationships/audio" Target="../media/NOTIFY.WAV"/><Relationship Id="rId10" Type="http://schemas.openxmlformats.org/officeDocument/2006/relationships/audio" Target="../media/NOTIFY.WAV"/><Relationship Id="rId11" Type="http://schemas.openxmlformats.org/officeDocument/2006/relationships/audio" Target="../media/NOTIFY.WAV"/><Relationship Id="rId12" Type="http://schemas.openxmlformats.org/officeDocument/2006/relationships/audio" Target="../media/NOTIFY.WAV"/><Relationship Id="rId13" Type="http://schemas.openxmlformats.org/officeDocument/2006/relationships/audio" Target="../media/NOTIFY.WAV"/><Relationship Id="rId14" Type="http://schemas.openxmlformats.org/officeDocument/2006/relationships/audio" Target="../media/NOTIFY.WAV"/><Relationship Id="rId15" Type="http://schemas.openxmlformats.org/officeDocument/2006/relationships/audio" Target="../media/Robotz%20Asterisk.wav"/><Relationship Id="rId16" Type="http://schemas.openxmlformats.org/officeDocument/2006/relationships/audio" Target="../media/Robotz%20Asterisk.wav"/><Relationship Id="rId17" Type="http://schemas.openxmlformats.org/officeDocument/2006/relationships/audio" Target="../media/Robotz%20Asterisk.wav"/><Relationship Id="rId18" Type="http://schemas.openxmlformats.org/officeDocument/2006/relationships/audio" Target="../media/Robotz%20Asterisk.wav"/><Relationship Id="rId19" Type="http://schemas.openxmlformats.org/officeDocument/2006/relationships/audio" Target="../media/Robotz%20Asterisk.wav"/><Relationship Id="rId20" Type="http://schemas.openxmlformats.org/officeDocument/2006/relationships/audio" Target="../media/Robotz%20Asterisk.wav"/><Relationship Id="rId21" Type="http://schemas.openxmlformats.org/officeDocument/2006/relationships/audio" Target="../media/Robotz%20Asterisk.wav"/><Relationship Id="rId22" Type="http://schemas.openxmlformats.org/officeDocument/2006/relationships/audio" Target="../media/Robotz%20Asterisk.wav"/><Relationship Id="rId23" Type="http://schemas.openxmlformats.org/officeDocument/2006/relationships/audio" Target="../media/Robotz%20Asterisk.wav"/><Relationship Id="rId24" Type="http://schemas.openxmlformats.org/officeDocument/2006/relationships/audio" Target="../media/Robotz%20Asterisk.wav"/><Relationship Id="rId25" Type="http://schemas.openxmlformats.org/officeDocument/2006/relationships/audio" Target="../media/Robotz%20Asterisk.wav"/><Relationship Id="rId26" Type="http://schemas.openxmlformats.org/officeDocument/2006/relationships/audio" Target="../media/Musica%20Exclamation.wav"/><Relationship Id="rId27" Type="http://schemas.openxmlformats.org/officeDocument/2006/relationships/audio" Target="../media/Musica%20Maximize.wav"/><Relationship Id="rId2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&#1575;&#1604;&#1610;&#1608;&#1578;&#1608;&#1576;&#1610;&#1575;&#1548;%20&#1578;&#1608;&#1602;&#1601;%20&#1581;&#1585;&#1580;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Robotz%20Asterisk.wav"/><Relationship Id="rId7" Type="http://schemas.openxmlformats.org/officeDocument/2006/relationships/audio" Target="../media/Musica%20Maximiz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wmf"/><Relationship Id="rId3" Type="http://schemas.openxmlformats.org/officeDocument/2006/relationships/audio" Target="../media/CAMERA.WAV"/><Relationship Id="rId4" Type="http://schemas.openxmlformats.org/officeDocument/2006/relationships/audio" Target="../media/Robotz%20Asterisk.wav"/><Relationship Id="rId5" Type="http://schemas.openxmlformats.org/officeDocument/2006/relationships/audio" Target="../media/TYPE.WAV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REMINDER.WAV"/><Relationship Id="rId4" Type="http://schemas.openxmlformats.org/officeDocument/2006/relationships/audio" Target="../media/CAMERA.WAV"/><Relationship Id="rId5" Type="http://schemas.openxmlformats.org/officeDocument/2006/relationships/audio" Target="../media/DRIVEBY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REMINDER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REMINDER.WAV"/><Relationship Id="rId8" Type="http://schemas.openxmlformats.org/officeDocument/2006/relationships/audio" Target="../media/DRIVEBY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REMINDER.WAV"/><Relationship Id="rId4" Type="http://schemas.openxmlformats.org/officeDocument/2006/relationships/audio" Target="../media/REMINDER.WAV"/><Relationship Id="rId5" Type="http://schemas.openxmlformats.org/officeDocument/2006/relationships/audio" Target="../media/CAMERA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DRIVEBY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DRIVEBY.WAV"/><Relationship Id="rId8" Type="http://schemas.openxmlformats.org/officeDocument/2006/relationships/audio" Target="../media/DRIVEBY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92360" y="112536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شعار الوزارة"/>
          <p:cNvPicPr/>
          <p:nvPr/>
        </p:nvPicPr>
        <p:blipFill>
          <a:blip r:embed="rId1"/>
          <a:stretch/>
        </p:blipFill>
        <p:spPr>
          <a:xfrm>
            <a:off x="1187280" y="627120"/>
            <a:ext cx="6337440" cy="5538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2895480" y="762120"/>
            <a:ext cx="3505320" cy="3124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3880" y="2362320"/>
            <a:ext cx="6629400" cy="2361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895480" y="2362320"/>
            <a:ext cx="3505320" cy="1447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712320" y="1142280"/>
            <a:ext cx="21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برتقال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012560" y="39618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177360" y="2742480"/>
            <a:ext cx="30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رتقالي م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888120" y="5333400"/>
            <a:ext cx="8013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برتقالي+ أحمر= برتقالي محم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75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25"/>
                            </p:stCondLst>
                            <p:childTnLst>
                              <p:par>
                                <p:cTn id="355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325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15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9950"/>
                            </p:stCondLst>
                            <p:childTnLst>
                              <p:par>
                                <p:cTn id="36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676520" y="1066680"/>
            <a:ext cx="3200400" cy="426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2514600" y="457200"/>
            <a:ext cx="5486400" cy="2895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514600" y="1066680"/>
            <a:ext cx="2362320" cy="228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465160" y="1294560"/>
            <a:ext cx="21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برتقال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319120" y="3885480"/>
            <a:ext cx="15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819520" y="1126440"/>
            <a:ext cx="1503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رتقالي م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72240" y="5637960"/>
            <a:ext cx="8210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برتقالي+ أصفر= برتقالي مصف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10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75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25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325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15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9950"/>
                            </p:stCondLst>
                            <p:childTnLst>
                              <p:par>
                                <p:cTn id="410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143000" y="762120"/>
            <a:ext cx="3352680" cy="33526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057400" y="2057400"/>
            <a:ext cx="510552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057400" y="2057400"/>
            <a:ext cx="2438280" cy="20574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996920" y="11422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5315400" y="297108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666880" y="1828080"/>
            <a:ext cx="1281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خضر م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871920" y="5409360"/>
            <a:ext cx="742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صفر + أخضر= أخضر مصف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800"/>
                            </p:stCondLst>
                            <p:childTnLst>
                              <p:par>
                                <p:cTn id="435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80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400"/>
                            </p:stCondLst>
                            <p:childTnLst>
                              <p:par>
                                <p:cTn id="44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1200"/>
                            </p:stCondLst>
                            <p:childTnLst>
                              <p:par>
                                <p:cTn id="45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48320" y="1295280"/>
            <a:ext cx="3886200" cy="3962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71600" y="457200"/>
            <a:ext cx="6095880" cy="25909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648320" y="1295280"/>
            <a:ext cx="2819160" cy="175284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606760" y="129456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84800" y="373320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961880" y="1828440"/>
            <a:ext cx="242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أخضر مزر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710640" y="5637960"/>
            <a:ext cx="740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زرق + أخضر = أخضر مزر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7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8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1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700"/>
                            </p:stCondLst>
                            <p:childTnLst>
                              <p:par>
                                <p:cTn id="48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267080" y="838080"/>
            <a:ext cx="3276720" cy="4343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62120" y="1447920"/>
            <a:ext cx="5943600" cy="25905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267080" y="1447920"/>
            <a:ext cx="2438640" cy="259056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447920" y="2361600"/>
            <a:ext cx="27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   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84160" y="419040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648320" y="1828080"/>
            <a:ext cx="153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نفسجي م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412920" y="5409360"/>
            <a:ext cx="8840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حمر + بنفسجي = بنفسجي محم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75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800"/>
                            </p:stCondLst>
                            <p:childTnLst>
                              <p:par>
                                <p:cTn id="5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3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800"/>
                            </p:stCondLst>
                            <p:childTnLst>
                              <p:par>
                                <p:cTn id="5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25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7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8000"/>
                            </p:stCondLst>
                            <p:childTnLst>
                              <p:par>
                                <p:cTn id="53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800"/>
                            </p:stCondLst>
                            <p:childTnLst>
                              <p:par>
                                <p:cTn id="536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14400" y="1752480"/>
            <a:ext cx="7238880" cy="22100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5181480" y="304920"/>
            <a:ext cx="3353040" cy="434340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181480" y="1752480"/>
            <a:ext cx="2590920" cy="22100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825640" y="242964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058800" y="685080"/>
            <a:ext cx="19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791320" y="1828080"/>
            <a:ext cx="144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نفسجي م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68920" y="5180760"/>
            <a:ext cx="885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زرق + بنفسجي = بنفسجي مزرق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11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5" name="CAMERA.WAV"/>
      </p:stSnd>
    </p:sndAc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8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3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800"/>
                            </p:stCondLst>
                            <p:childTnLst>
                              <p:par>
                                <p:cTn id="564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2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8"/>
          <p:cNvSpPr/>
          <p:nvPr/>
        </p:nvSpPr>
        <p:spPr>
          <a:xfrm>
            <a:off x="685800" y="3505320"/>
            <a:ext cx="1828800" cy="1904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9"/>
          <p:cNvSpPr/>
          <p:nvPr/>
        </p:nvSpPr>
        <p:spPr>
          <a:xfrm>
            <a:off x="3429000" y="3429000"/>
            <a:ext cx="1905120" cy="1981080"/>
          </a:xfrm>
          <a:prstGeom prst="ellipse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6400800" y="3505320"/>
            <a:ext cx="1905120" cy="1981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4"/>
          <p:cNvSpPr/>
          <p:nvPr/>
        </p:nvSpPr>
        <p:spPr>
          <a:xfrm>
            <a:off x="609480" y="609480"/>
            <a:ext cx="190512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5"/>
          <p:cNvSpPr/>
          <p:nvPr/>
        </p:nvSpPr>
        <p:spPr>
          <a:xfrm>
            <a:off x="3429000" y="609480"/>
            <a:ext cx="1905120" cy="182880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6"/>
          <p:cNvSpPr/>
          <p:nvPr/>
        </p:nvSpPr>
        <p:spPr>
          <a:xfrm>
            <a:off x="6477120" y="609480"/>
            <a:ext cx="1828800" cy="18288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6248520" y="2582280"/>
            <a:ext cx="221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6"/>
          <p:cNvSpPr/>
          <p:nvPr/>
        </p:nvSpPr>
        <p:spPr>
          <a:xfrm>
            <a:off x="3200400" y="2590200"/>
            <a:ext cx="226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نفسج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380880" y="266616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رتقا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6553080" y="1142280"/>
            <a:ext cx="160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6248520" y="4114080"/>
            <a:ext cx="20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3276720" y="1065960"/>
            <a:ext cx="21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1"/>
          <p:cNvSpPr/>
          <p:nvPr/>
        </p:nvSpPr>
        <p:spPr>
          <a:xfrm>
            <a:off x="3429000" y="4037760"/>
            <a:ext cx="192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762120" y="106596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4"/>
          <p:cNvSpPr/>
          <p:nvPr/>
        </p:nvSpPr>
        <p:spPr>
          <a:xfrm>
            <a:off x="940680" y="403776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838080" y="563796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ألوان الثلاث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7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00"/>
                            </p:stCondLst>
                            <p:childTnLst>
                              <p:par>
                                <p:cTn id="60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7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7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600"/>
                            </p:stCondLst>
                            <p:childTnLst>
                              <p:par>
                                <p:cTn id="6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7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7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6900"/>
                            </p:stCondLst>
                            <p:childTnLst>
                              <p:par>
                                <p:cTn id="6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84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9900"/>
                            </p:stCondLst>
                            <p:childTnLst>
                              <p:par>
                                <p:cTn id="6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1350"/>
                            </p:stCondLst>
                            <p:childTnLst>
                              <p:par>
                                <p:cTn id="6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7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650"/>
                            </p:stCondLst>
                            <p:childTnLst>
                              <p:par>
                                <p:cTn id="6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7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3950"/>
                            </p:stCondLst>
                            <p:childTnLst>
                              <p:par>
                                <p:cTn id="64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5450"/>
                            </p:stCondLst>
                            <p:childTnLst>
                              <p:par>
                                <p:cTn id="64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695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75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8475"/>
                            </p:stCondLst>
                            <p:childTnLst>
                              <p:par>
                                <p:cTn id="65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7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9775"/>
                            </p:stCondLst>
                            <p:childTnLst>
                              <p:par>
                                <p:cTn id="66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1075"/>
                            </p:stCondLst>
                            <p:childTnLst>
                              <p:par>
                                <p:cTn id="66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4075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1295280" y="1676520"/>
            <a:ext cx="4419720" cy="3352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43200" y="304920"/>
            <a:ext cx="5029200" cy="3504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2743200" y="1676520"/>
            <a:ext cx="2971800" cy="213336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5883120" y="83736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04960" y="39618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رتقا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764160" y="236160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كاك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69400" y="5409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أخضر + برتقالي = كاك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3025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525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25"/>
                            </p:stCondLst>
                            <p:childTnLst>
                              <p:par>
                                <p:cTn id="69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75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6325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825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325"/>
                            </p:stCondLst>
                            <p:childTnLst>
                              <p:par>
                                <p:cTn id="70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838080" y="990720"/>
            <a:ext cx="3048120" cy="441936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1523880"/>
            <a:ext cx="6324480" cy="2438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371600" y="1523880"/>
            <a:ext cx="2514600" cy="24386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5045040" y="23616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486800" y="4342680"/>
            <a:ext cx="19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3200" y="243756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ز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826560" y="5561640"/>
            <a:ext cx="764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أخضر + بنفسجي = زيت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0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000"/>
                            </p:stCondLst>
                            <p:childTnLst>
                              <p:par>
                                <p:cTn id="7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500"/>
                            </p:stCondLst>
                            <p:childTnLst>
                              <p:par>
                                <p:cTn id="7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75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800"/>
                            </p:stCondLst>
                            <p:childTnLst>
                              <p:par>
                                <p:cTn id="73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75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7250"/>
                            </p:stCondLst>
                            <p:childTnLst>
                              <p:par>
                                <p:cTn id="74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550"/>
                            </p:stCondLst>
                            <p:childTnLst>
                              <p:par>
                                <p:cTn id="74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105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4343400" y="1143000"/>
            <a:ext cx="4267080" cy="4114800"/>
          </a:xfrm>
          <a:prstGeom prst="rect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533520"/>
            <a:ext cx="6248520" cy="2971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343400" y="1143000"/>
            <a:ext cx="2362320" cy="2362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781280" y="16758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رتقا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601600" y="3809160"/>
            <a:ext cx="19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097600" y="1904400"/>
            <a:ext cx="8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90840" y="5409360"/>
            <a:ext cx="80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بنفسجي + برتقالي =  ب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0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7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75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025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25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25"/>
                            </p:stCondLst>
                            <p:childTnLst>
                              <p:par>
                                <p:cTn id="7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75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475"/>
                            </p:stCondLst>
                            <p:childTnLst>
                              <p:par>
                                <p:cTn id="78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2475"/>
                            </p:stCondLst>
                            <p:childTnLst>
                              <p:par>
                                <p:cTn id="78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75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27"/>
          <p:cNvSpPr/>
          <p:nvPr/>
        </p:nvSpPr>
        <p:spPr>
          <a:xfrm>
            <a:off x="6470640" y="5022720"/>
            <a:ext cx="2127240" cy="1797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28"/>
          <p:cNvSpPr/>
          <p:nvPr/>
        </p:nvSpPr>
        <p:spPr>
          <a:xfrm>
            <a:off x="6521400" y="5075280"/>
            <a:ext cx="2051280" cy="1700280"/>
          </a:xfrm>
          <a:prstGeom prst="pie">
            <a:avLst/>
          </a:pr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29"/>
          <p:cNvSpPr/>
          <p:nvPr/>
        </p:nvSpPr>
        <p:spPr>
          <a:xfrm>
            <a:off x="6060960" y="4381560"/>
            <a:ext cx="2845080" cy="231300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30"/>
          <p:cNvSpPr/>
          <p:nvPr/>
        </p:nvSpPr>
        <p:spPr>
          <a:xfrm>
            <a:off x="8096400" y="5610240"/>
            <a:ext cx="525240" cy="70308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31"/>
          <p:cNvSpPr/>
          <p:nvPr/>
        </p:nvSpPr>
        <p:spPr>
          <a:xfrm>
            <a:off x="8535960" y="5186520"/>
            <a:ext cx="566640" cy="466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32"/>
          <p:cNvSpPr/>
          <p:nvPr/>
        </p:nvSpPr>
        <p:spPr>
          <a:xfrm>
            <a:off x="8515440" y="5094360"/>
            <a:ext cx="431640" cy="5634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33"/>
          <p:cNvSpPr/>
          <p:nvPr/>
        </p:nvSpPr>
        <p:spPr>
          <a:xfrm>
            <a:off x="7513560" y="4599000"/>
            <a:ext cx="1316160" cy="128592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34"/>
          <p:cNvSpPr/>
          <p:nvPr/>
        </p:nvSpPr>
        <p:spPr>
          <a:xfrm>
            <a:off x="7553160" y="5634000"/>
            <a:ext cx="811440" cy="2365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35"/>
          <p:cNvSpPr/>
          <p:nvPr/>
        </p:nvSpPr>
        <p:spPr>
          <a:xfrm>
            <a:off x="6084720" y="5721480"/>
            <a:ext cx="2310120" cy="939600"/>
          </a:xfrm>
          <a:prstGeom prst="pi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36"/>
          <p:cNvSpPr/>
          <p:nvPr/>
        </p:nvSpPr>
        <p:spPr>
          <a:xfrm>
            <a:off x="8429760" y="4762440"/>
            <a:ext cx="334800" cy="10749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37"/>
          <p:cNvSpPr/>
          <p:nvPr/>
        </p:nvSpPr>
        <p:spPr>
          <a:xfrm>
            <a:off x="8764560" y="4815000"/>
            <a:ext cx="65160" cy="115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38"/>
          <p:cNvSpPr/>
          <p:nvPr/>
        </p:nvSpPr>
        <p:spPr>
          <a:xfrm>
            <a:off x="8561520" y="4660920"/>
            <a:ext cx="46080" cy="144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39"/>
          <p:cNvSpPr/>
          <p:nvPr/>
        </p:nvSpPr>
        <p:spPr>
          <a:xfrm>
            <a:off x="8364600" y="4627440"/>
            <a:ext cx="75960" cy="615960"/>
          </a:xfrm>
          <a:prstGeom prst="pie">
            <a:avLst/>
          </a:prstGeom>
          <a:noFill/>
          <a:ln w="0">
            <a:solidFill>
              <a:srgbClr val="ffc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40"/>
          <p:cNvSpPr/>
          <p:nvPr/>
        </p:nvSpPr>
        <p:spPr>
          <a:xfrm>
            <a:off x="8228160" y="4819680"/>
            <a:ext cx="212400" cy="6462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41"/>
          <p:cNvSpPr/>
          <p:nvPr/>
        </p:nvSpPr>
        <p:spPr>
          <a:xfrm>
            <a:off x="8151840" y="4892760"/>
            <a:ext cx="318960" cy="7952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42"/>
          <p:cNvSpPr/>
          <p:nvPr/>
        </p:nvSpPr>
        <p:spPr>
          <a:xfrm>
            <a:off x="8020080" y="5003640"/>
            <a:ext cx="439560" cy="774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43"/>
          <p:cNvSpPr/>
          <p:nvPr/>
        </p:nvSpPr>
        <p:spPr>
          <a:xfrm>
            <a:off x="7872480" y="5191200"/>
            <a:ext cx="577800" cy="65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44"/>
          <p:cNvSpPr/>
          <p:nvPr/>
        </p:nvSpPr>
        <p:spPr>
          <a:xfrm>
            <a:off x="7615080" y="5465880"/>
            <a:ext cx="789120" cy="4046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5"/>
          <p:cNvSpPr/>
          <p:nvPr/>
        </p:nvSpPr>
        <p:spPr>
          <a:xfrm>
            <a:off x="7705800" y="5302080"/>
            <a:ext cx="723960" cy="5540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46"/>
          <p:cNvSpPr/>
          <p:nvPr/>
        </p:nvSpPr>
        <p:spPr>
          <a:xfrm>
            <a:off x="8688240" y="4454640"/>
            <a:ext cx="106560" cy="903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7"/>
          <p:cNvSpPr/>
          <p:nvPr/>
        </p:nvSpPr>
        <p:spPr>
          <a:xfrm>
            <a:off x="7564320" y="5875200"/>
            <a:ext cx="714600" cy="1638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48"/>
          <p:cNvSpPr/>
          <p:nvPr/>
        </p:nvSpPr>
        <p:spPr>
          <a:xfrm>
            <a:off x="6597720" y="6039000"/>
            <a:ext cx="955440" cy="3762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49"/>
          <p:cNvSpPr/>
          <p:nvPr/>
        </p:nvSpPr>
        <p:spPr>
          <a:xfrm>
            <a:off x="7321680" y="5937120"/>
            <a:ext cx="414360" cy="255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50"/>
          <p:cNvSpPr/>
          <p:nvPr/>
        </p:nvSpPr>
        <p:spPr>
          <a:xfrm>
            <a:off x="7397640" y="5813280"/>
            <a:ext cx="400320" cy="61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51"/>
          <p:cNvSpPr/>
          <p:nvPr/>
        </p:nvSpPr>
        <p:spPr>
          <a:xfrm>
            <a:off x="7610400" y="6039000"/>
            <a:ext cx="60480" cy="6336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52"/>
          <p:cNvSpPr/>
          <p:nvPr/>
        </p:nvSpPr>
        <p:spPr>
          <a:xfrm>
            <a:off x="7772400" y="5029200"/>
            <a:ext cx="111240" cy="1159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53"/>
          <p:cNvSpPr/>
          <p:nvPr/>
        </p:nvSpPr>
        <p:spPr>
          <a:xfrm>
            <a:off x="8515440" y="4888080"/>
            <a:ext cx="177840" cy="726840"/>
          </a:xfrm>
          <a:prstGeom prst="pie">
            <a:avLst/>
          </a:prstGeom>
          <a:solidFill>
            <a:srgbClr val="ff00ff"/>
          </a:solidFill>
          <a:ln w="0">
            <a:solidFill>
              <a:srgbClr val="85028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54"/>
          <p:cNvSpPr/>
          <p:nvPr/>
        </p:nvSpPr>
        <p:spPr>
          <a:xfrm>
            <a:off x="7650000" y="5576760"/>
            <a:ext cx="638280" cy="241560"/>
          </a:xfrm>
          <a:prstGeom prst="pie">
            <a:avLst/>
          </a:prstGeom>
          <a:solidFill>
            <a:srgbClr val="ff00ff"/>
          </a:solidFill>
          <a:ln w="0">
            <a:solidFill>
              <a:srgbClr val="850285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55"/>
          <p:cNvSpPr/>
          <p:nvPr/>
        </p:nvSpPr>
        <p:spPr>
          <a:xfrm>
            <a:off x="7710480" y="5927760"/>
            <a:ext cx="395280" cy="8244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56"/>
          <p:cNvSpPr/>
          <p:nvPr/>
        </p:nvSpPr>
        <p:spPr>
          <a:xfrm>
            <a:off x="7534440" y="5167440"/>
            <a:ext cx="141120" cy="10620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57"/>
          <p:cNvSpPr/>
          <p:nvPr/>
        </p:nvSpPr>
        <p:spPr>
          <a:xfrm>
            <a:off x="7229520" y="5176800"/>
            <a:ext cx="411120" cy="12528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58"/>
          <p:cNvSpPr/>
          <p:nvPr/>
        </p:nvSpPr>
        <p:spPr>
          <a:xfrm>
            <a:off x="7159680" y="5243400"/>
            <a:ext cx="439560" cy="144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7122960" y="5378400"/>
            <a:ext cx="441360" cy="6372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60"/>
          <p:cNvSpPr/>
          <p:nvPr/>
        </p:nvSpPr>
        <p:spPr>
          <a:xfrm>
            <a:off x="7104240" y="5504040"/>
            <a:ext cx="409320" cy="536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61"/>
          <p:cNvSpPr/>
          <p:nvPr/>
        </p:nvSpPr>
        <p:spPr>
          <a:xfrm>
            <a:off x="7072200" y="5653080"/>
            <a:ext cx="420840" cy="82440"/>
          </a:xfrm>
          <a:prstGeom prst="pi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6" descr="BIRD008"/>
          <p:cNvPicPr/>
          <p:nvPr/>
        </p:nvPicPr>
        <p:blipFill>
          <a:blip r:embed="rId2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  <p:sp>
        <p:nvSpPr>
          <p:cNvPr id="87" name="WordArt 67"/>
          <p:cNvSpPr txBox="1"/>
          <p:nvPr/>
        </p:nvSpPr>
        <p:spPr>
          <a:xfrm>
            <a:off x="1828800" y="1447920"/>
            <a:ext cx="5638680" cy="23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DecoType Naskh"/>
              </a:rPr>
              <a:t>بسم الله الرحمن الرحيم </a:t>
            </a:r>
            <a:endParaRPr b="1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DecoType Naskh"/>
              <a:ea typeface="DecoType Naskh"/>
            </a:endParaRPr>
          </a:p>
        </p:txBody>
      </p:sp>
      <p:sp>
        <p:nvSpPr>
          <p:cNvPr id="88" name="Text Box 68"/>
          <p:cNvSpPr/>
          <p:nvPr/>
        </p:nvSpPr>
        <p:spPr>
          <a:xfrm>
            <a:off x="990720" y="2360520"/>
            <a:ext cx="693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كل عام وانتم بخير بمناسبة العام ال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يا داعيا.wav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4" name="CAMERA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9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Oval 2"/>
          <p:cNvSpPr/>
          <p:nvPr/>
        </p:nvSpPr>
        <p:spPr>
          <a:xfrm>
            <a:off x="457200" y="457200"/>
            <a:ext cx="2819520" cy="281952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5791320" y="457200"/>
            <a:ext cx="2819160" cy="28195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3124080" y="2666880"/>
            <a:ext cx="2743200" cy="274320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773760" y="1447200"/>
            <a:ext cx="8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032000" y="365688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زيت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249200" y="1523160"/>
            <a:ext cx="124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اك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58760" y="5257080"/>
            <a:ext cx="8480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imes New Roman"/>
              </a:rPr>
              <a:t>الألوان              الرباعية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75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75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725"/>
                            </p:stCondLst>
                            <p:childTnLst>
                              <p:par>
                                <p:cTn id="81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225"/>
                            </p:stCondLst>
                            <p:childTnLst>
                              <p:par>
                                <p:cTn id="8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7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525"/>
                            </p:stCondLst>
                            <p:childTnLst>
                              <p:par>
                                <p:cTn id="82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7025"/>
                            </p:stCondLst>
                            <p:childTnLst>
                              <p:par>
                                <p:cTn id="82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75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219320" y="1066680"/>
            <a:ext cx="281916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029200" y="1066680"/>
            <a:ext cx="29718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392480" y="4342680"/>
            <a:ext cx="63421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Times New Roman"/>
              </a:rPr>
              <a:t>الألوان المساعدة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-583200" y="5637960"/>
            <a:ext cx="10435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وهي تساعد على سطوع اللون أو إظلام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5947560" y="2056680"/>
            <a:ext cx="123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بي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1990800" y="20566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س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0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3300"/>
                            </p:stCondLst>
                            <p:childTnLst>
                              <p:par>
                                <p:cTn id="86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ungle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480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7800"/>
                            </p:stCondLst>
                            <p:childTnLst>
                              <p:par>
                                <p:cTn id="87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sica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9400"/>
                            </p:stCondLst>
                            <p:childTnLst>
                              <p:par>
                                <p:cTn id="87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88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19320" y="838080"/>
            <a:ext cx="1218960" cy="4648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438280" y="838080"/>
            <a:ext cx="1219320" cy="46483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3657600" y="838080"/>
            <a:ext cx="1371600" cy="46483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029200" y="838080"/>
            <a:ext cx="1295280" cy="46483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324480" y="838080"/>
            <a:ext cx="1295640" cy="46483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09160" y="5866560"/>
            <a:ext cx="88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كلما زادت كمية الأبيض ازداد اللون سطوع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6374880" y="289476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325480" y="304740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أفت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4030200" y="304740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أفت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2734560" y="3047400"/>
            <a:ext cx="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أفت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1392120" y="2971080"/>
            <a:ext cx="101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وردي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1219320" y="380880"/>
            <a:ext cx="510516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5334120" y="-610200"/>
            <a:ext cx="73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4040640" y="-610200"/>
            <a:ext cx="814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2669400" y="-610200"/>
            <a:ext cx="113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1219320" y="-38160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…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7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8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75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1800"/>
                            </p:stCondLst>
                            <p:childTnLst>
                              <p:par>
                                <p:cTn id="9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33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38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3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8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63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75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6600"/>
                            </p:stCondLst>
                            <p:childTnLst>
                              <p:par>
                                <p:cTn id="9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71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86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75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8900"/>
                            </p:stCondLst>
                            <p:childTnLst>
                              <p:par>
                                <p:cTn id="9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9400"/>
                            </p:stCondLst>
                            <p:childTnLst>
                              <p:par>
                                <p:cTn id="9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10900"/>
                            </p:stCondLst>
                            <p:childTnLst>
                              <p:par>
                                <p:cTn id="9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75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"/>
                            </p:stCondLst>
                            <p:childTnLst>
                              <p:par>
                                <p:cTn id="96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3600"/>
                            </p:stCondLst>
                            <p:childTnLst>
                              <p:par>
                                <p:cTn id="97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1066680" y="762120"/>
            <a:ext cx="6934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66680" y="1905120"/>
            <a:ext cx="6934320" cy="1143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3048120"/>
            <a:ext cx="6934320" cy="121896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66680" y="4267080"/>
            <a:ext cx="6934320" cy="129564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-691200" y="5714280"/>
            <a:ext cx="1065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كلما زادت كمية الأسود ازداد اللون إظلاما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881160" y="913680"/>
            <a:ext cx="15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4250160" y="2208960"/>
            <a:ext cx="10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أغم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4326120" y="3276000"/>
            <a:ext cx="10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Times New Roman"/>
              </a:rPr>
              <a:t>أغم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326120" y="4571280"/>
            <a:ext cx="102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imes New Roman"/>
              </a:rPr>
              <a:t>أغم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8383680" y="1218600"/>
            <a:ext cx="4978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244720" y="2437560"/>
            <a:ext cx="113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 .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8009640" y="3961800"/>
            <a:ext cx="1131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5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a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500"/>
                            </p:stCondLst>
                            <p:childTnLst>
                              <p:par>
                                <p:cTn id="98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a%20Menu%20Pop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7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2800"/>
                            </p:stCondLst>
                            <p:childTnLst>
                              <p:par>
                                <p:cTn id="98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43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480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usica%20Menu%20Comma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75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61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76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8100"/>
                            </p:stCondLst>
                            <p:childTnLst>
                              <p:par>
                                <p:cTn id="101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75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9400"/>
                            </p:stCondLst>
                            <p:childTnLst>
                              <p:par>
                                <p:cTn id="10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ungle%20Ques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900"/>
                            </p:stCondLst>
                            <p:childTnLst>
                              <p:par>
                                <p:cTn id="10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0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7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12700"/>
                            </p:stCondLst>
                            <p:childTnLst>
                              <p:par>
                                <p:cTn id="10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3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42840" y="27000"/>
            <a:ext cx="9058320" cy="680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63800" y="5578560"/>
            <a:ext cx="6858000" cy="53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1063800" y="5308560"/>
            <a:ext cx="6858000" cy="538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063800" y="5040360"/>
            <a:ext cx="6858000" cy="538200"/>
          </a:xfrm>
          <a:prstGeom prst="rect">
            <a:avLst/>
          </a:prstGeom>
          <a:solidFill>
            <a:srgbClr val="1717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1063800" y="4772160"/>
            <a:ext cx="6858000" cy="536400"/>
          </a:xfrm>
          <a:prstGeom prst="rect">
            <a:avLst/>
          </a:prstGeom>
          <a:solidFill>
            <a:srgbClr val="24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1063800" y="4503600"/>
            <a:ext cx="6858000" cy="53676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1063800" y="4235400"/>
            <a:ext cx="6858000" cy="536760"/>
          </a:xfrm>
          <a:prstGeom prst="rect">
            <a:avLst/>
          </a:prstGeom>
          <a:solidFill>
            <a:srgbClr val="3d3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1063800" y="3957480"/>
            <a:ext cx="6858000" cy="546120"/>
          </a:xfrm>
          <a:prstGeom prst="rect">
            <a:avLst/>
          </a:prstGeom>
          <a:solidFill>
            <a:srgbClr val="474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5"/>
          <p:cNvSpPr/>
          <p:nvPr/>
        </p:nvSpPr>
        <p:spPr>
          <a:xfrm>
            <a:off x="1063800" y="3689280"/>
            <a:ext cx="6858000" cy="546120"/>
          </a:xfrm>
          <a:prstGeom prst="rect">
            <a:avLst/>
          </a:prstGeom>
          <a:solidFill>
            <a:srgbClr val="545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6"/>
          <p:cNvSpPr/>
          <p:nvPr/>
        </p:nvSpPr>
        <p:spPr>
          <a:xfrm>
            <a:off x="1063800" y="3419640"/>
            <a:ext cx="6858000" cy="537840"/>
          </a:xfrm>
          <a:prstGeom prst="rect">
            <a:avLst/>
          </a:prstGeom>
          <a:solidFill>
            <a:srgbClr val="61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"/>
          <p:cNvSpPr/>
          <p:nvPr/>
        </p:nvSpPr>
        <p:spPr>
          <a:xfrm>
            <a:off x="1063800" y="3151080"/>
            <a:ext cx="6858000" cy="53820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8"/>
          <p:cNvSpPr/>
          <p:nvPr/>
        </p:nvSpPr>
        <p:spPr>
          <a:xfrm>
            <a:off x="1063800" y="2882880"/>
            <a:ext cx="6858000" cy="53676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9"/>
          <p:cNvSpPr/>
          <p:nvPr/>
        </p:nvSpPr>
        <p:spPr>
          <a:xfrm>
            <a:off x="1063800" y="2614680"/>
            <a:ext cx="6858000" cy="53640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0"/>
          <p:cNvSpPr/>
          <p:nvPr/>
        </p:nvSpPr>
        <p:spPr>
          <a:xfrm>
            <a:off x="1063800" y="2346480"/>
            <a:ext cx="6858000" cy="53640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1"/>
          <p:cNvSpPr/>
          <p:nvPr/>
        </p:nvSpPr>
        <p:spPr>
          <a:xfrm>
            <a:off x="1063800" y="2076480"/>
            <a:ext cx="6858000" cy="53820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1063800" y="1800360"/>
            <a:ext cx="6858000" cy="546120"/>
          </a:xfrm>
          <a:prstGeom prst="rect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1063800" y="1530360"/>
            <a:ext cx="6858000" cy="54612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1063800" y="1262160"/>
            <a:ext cx="6858000" cy="538200"/>
          </a:xfrm>
          <a:prstGeom prst="rect">
            <a:avLst/>
          </a:pr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25"/>
          <p:cNvSpPr/>
          <p:nvPr/>
        </p:nvSpPr>
        <p:spPr>
          <a:xfrm>
            <a:off x="1063800" y="993600"/>
            <a:ext cx="6858000" cy="536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26"/>
          <p:cNvSpPr/>
          <p:nvPr/>
        </p:nvSpPr>
        <p:spPr>
          <a:xfrm>
            <a:off x="1063800" y="733320"/>
            <a:ext cx="6858000" cy="528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27"/>
          <p:cNvSpPr/>
          <p:nvPr/>
        </p:nvSpPr>
        <p:spPr>
          <a:xfrm>
            <a:off x="1063800" y="733320"/>
            <a:ext cx="6858000" cy="260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8"/>
          <p:cNvSpPr/>
          <p:nvPr/>
        </p:nvSpPr>
        <p:spPr>
          <a:xfrm>
            <a:off x="1179360" y="6105600"/>
            <a:ext cx="96228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9"/>
          <p:cNvSpPr/>
          <p:nvPr/>
        </p:nvSpPr>
        <p:spPr>
          <a:xfrm>
            <a:off x="2141640" y="610560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0"/>
          <p:cNvSpPr/>
          <p:nvPr/>
        </p:nvSpPr>
        <p:spPr>
          <a:xfrm>
            <a:off x="3105000" y="610560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4191120" y="625788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5032440" y="610560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5996160" y="6105600"/>
            <a:ext cx="9619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4"/>
          <p:cNvSpPr/>
          <p:nvPr/>
        </p:nvSpPr>
        <p:spPr>
          <a:xfrm>
            <a:off x="6958080" y="610560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7921800" y="610560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6"/>
          <p:cNvSpPr/>
          <p:nvPr/>
        </p:nvSpPr>
        <p:spPr>
          <a:xfrm>
            <a:off x="230040" y="142920"/>
            <a:ext cx="9493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7"/>
          <p:cNvSpPr/>
          <p:nvPr/>
        </p:nvSpPr>
        <p:spPr>
          <a:xfrm>
            <a:off x="3352680" y="0"/>
            <a:ext cx="96228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8"/>
          <p:cNvSpPr/>
          <p:nvPr/>
        </p:nvSpPr>
        <p:spPr>
          <a:xfrm>
            <a:off x="2141640" y="1429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3105000" y="14292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0"/>
          <p:cNvSpPr/>
          <p:nvPr/>
        </p:nvSpPr>
        <p:spPr>
          <a:xfrm>
            <a:off x="4068720" y="14292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41"/>
          <p:cNvSpPr/>
          <p:nvPr/>
        </p:nvSpPr>
        <p:spPr>
          <a:xfrm>
            <a:off x="5032440" y="14292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5996160" y="142920"/>
            <a:ext cx="9619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3"/>
          <p:cNvSpPr/>
          <p:nvPr/>
        </p:nvSpPr>
        <p:spPr>
          <a:xfrm>
            <a:off x="6958080" y="14292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44"/>
          <p:cNvSpPr/>
          <p:nvPr/>
        </p:nvSpPr>
        <p:spPr>
          <a:xfrm>
            <a:off x="7921800" y="1429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45"/>
          <p:cNvSpPr/>
          <p:nvPr/>
        </p:nvSpPr>
        <p:spPr>
          <a:xfrm>
            <a:off x="230040" y="6105600"/>
            <a:ext cx="9493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46"/>
          <p:cNvSpPr/>
          <p:nvPr/>
        </p:nvSpPr>
        <p:spPr>
          <a:xfrm>
            <a:off x="216000" y="5524560"/>
            <a:ext cx="963360" cy="59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7"/>
          <p:cNvSpPr/>
          <p:nvPr/>
        </p:nvSpPr>
        <p:spPr>
          <a:xfrm>
            <a:off x="216000" y="492444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48"/>
          <p:cNvSpPr/>
          <p:nvPr/>
        </p:nvSpPr>
        <p:spPr>
          <a:xfrm>
            <a:off x="216000" y="43243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9"/>
          <p:cNvSpPr/>
          <p:nvPr/>
        </p:nvSpPr>
        <p:spPr>
          <a:xfrm>
            <a:off x="216000" y="372420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0"/>
          <p:cNvSpPr/>
          <p:nvPr/>
        </p:nvSpPr>
        <p:spPr>
          <a:xfrm>
            <a:off x="216000" y="312408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1"/>
          <p:cNvSpPr/>
          <p:nvPr/>
        </p:nvSpPr>
        <p:spPr>
          <a:xfrm>
            <a:off x="216000" y="252396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2"/>
          <p:cNvSpPr/>
          <p:nvPr/>
        </p:nvSpPr>
        <p:spPr>
          <a:xfrm>
            <a:off x="216000" y="1933560"/>
            <a:ext cx="963360" cy="59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3"/>
          <p:cNvSpPr/>
          <p:nvPr/>
        </p:nvSpPr>
        <p:spPr>
          <a:xfrm>
            <a:off x="216000" y="133344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4"/>
          <p:cNvSpPr/>
          <p:nvPr/>
        </p:nvSpPr>
        <p:spPr>
          <a:xfrm>
            <a:off x="216000" y="7333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55"/>
          <p:cNvSpPr/>
          <p:nvPr/>
        </p:nvSpPr>
        <p:spPr>
          <a:xfrm>
            <a:off x="7921800" y="5524560"/>
            <a:ext cx="963360" cy="59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56"/>
          <p:cNvSpPr/>
          <p:nvPr/>
        </p:nvSpPr>
        <p:spPr>
          <a:xfrm>
            <a:off x="7921800" y="492444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7"/>
          <p:cNvSpPr/>
          <p:nvPr/>
        </p:nvSpPr>
        <p:spPr>
          <a:xfrm>
            <a:off x="7921800" y="43243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58"/>
          <p:cNvSpPr/>
          <p:nvPr/>
        </p:nvSpPr>
        <p:spPr>
          <a:xfrm>
            <a:off x="7924680" y="5486400"/>
            <a:ext cx="96372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9"/>
          <p:cNvSpPr/>
          <p:nvPr/>
        </p:nvSpPr>
        <p:spPr>
          <a:xfrm>
            <a:off x="7921800" y="312408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"/>
          <p:cNvSpPr/>
          <p:nvPr/>
        </p:nvSpPr>
        <p:spPr>
          <a:xfrm>
            <a:off x="7921800" y="252396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1"/>
          <p:cNvSpPr/>
          <p:nvPr/>
        </p:nvSpPr>
        <p:spPr>
          <a:xfrm>
            <a:off x="7921800" y="1933560"/>
            <a:ext cx="963360" cy="59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2"/>
          <p:cNvSpPr/>
          <p:nvPr/>
        </p:nvSpPr>
        <p:spPr>
          <a:xfrm>
            <a:off x="7921800" y="133344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3"/>
          <p:cNvSpPr/>
          <p:nvPr/>
        </p:nvSpPr>
        <p:spPr>
          <a:xfrm>
            <a:off x="7921800" y="733320"/>
            <a:ext cx="9633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64"/>
          <p:cNvSpPr/>
          <p:nvPr/>
        </p:nvSpPr>
        <p:spPr>
          <a:xfrm>
            <a:off x="-312840" y="3169080"/>
            <a:ext cx="95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التدرج من الأسود إلى الأبي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5"/>
          <p:cNvSpPr/>
          <p:nvPr/>
        </p:nvSpPr>
        <p:spPr>
          <a:xfrm>
            <a:off x="2081160" y="4571280"/>
            <a:ext cx="48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وبينهما درجات الرماد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6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7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8229600" y="533520"/>
            <a:ext cx="914400" cy="632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0"/>
          <p:cNvSpPr/>
          <p:nvPr/>
        </p:nvSpPr>
        <p:spPr>
          <a:xfrm>
            <a:off x="990720" y="6095880"/>
            <a:ext cx="723888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Picture 72" descr="BIRD008"/>
          <p:cNvPicPr/>
          <p:nvPr/>
        </p:nvPicPr>
        <p:blipFill>
          <a:blip r:embed="rId5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6" name="CAMERA.WAV"/>
      </p:stSnd>
    </p:sndAc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0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usica%20Exclama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2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914400" y="990720"/>
            <a:ext cx="2286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1905120" y="1371600"/>
            <a:ext cx="5943600" cy="1752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4724280" y="2362320"/>
            <a:ext cx="213372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2057400" y="3429000"/>
            <a:ext cx="4267080" cy="1752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4724280" y="3429000"/>
            <a:ext cx="1600200" cy="1752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2057400" y="3429000"/>
            <a:ext cx="1143000" cy="14479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905120" y="1371600"/>
            <a:ext cx="1295280" cy="175248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4724280" y="2362320"/>
            <a:ext cx="2133720" cy="7617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7209000" y="4342680"/>
            <a:ext cx="180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لاح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-228600" y="5523480"/>
            <a:ext cx="103633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Times New Roman"/>
              </a:rPr>
              <a:t>        الفرق بين درجات الرمادي عندما اقتربت من الأبيض والأسود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15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A7%D9%84%D9%8A%D9%88%D8%AA%D9%88%D8%A8%D9%8A%D8%A7%D8%8C%20%D8%AA%D9%88%D9%82%D9%81%20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usica%20Maximi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8500"/>
                            </p:stCondLst>
                            <p:childTnLst>
                              <p:par>
                                <p:cTn id="120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7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75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9800"/>
                            </p:stCondLst>
                            <p:childTnLst>
                              <p:par>
                                <p:cTn id="1210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19800"/>
                            </p:stCondLst>
                            <p:childTnLst>
                              <p:par>
                                <p:cTn id="1215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-457200" y="579060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3300"/>
                </a:solidFill>
                <a:latin typeface="Times New Roman"/>
                <a:ea typeface="Al-Kharashi 4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648320" y="5382360"/>
            <a:ext cx="436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</a:rPr>
              <a:t>مدرس التربية الفنية بمدرسة </a:t>
            </a:r>
            <a:r>
              <a:rPr b="0" lang="ar-SA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6" descr="BIRD008"/>
          <p:cNvPicPr/>
          <p:nvPr/>
        </p:nvPicPr>
        <p:blipFill>
          <a:blip r:embed="rId2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7"/>
          <p:cNvSpPr/>
          <p:nvPr/>
        </p:nvSpPr>
        <p:spPr>
          <a:xfrm>
            <a:off x="1143000" y="5715000"/>
            <a:ext cx="3048120" cy="838080"/>
          </a:xfrm>
          <a:custGeom>
            <a:avLst/>
            <a:gdLst>
              <a:gd name="textAreaLeft" fmla="*/ 98640 w 3048120"/>
              <a:gd name="textAreaRight" fmla="*/ 2949480 w 30481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785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4935" y="21600"/>
                </a:lnTo>
                <a:arcTo wR="3600" hR="3600" stAng="10800000" swAng="5400000"/>
                <a:lnTo>
                  <a:pt x="785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be4ae"/>
              </a:gs>
              <a:gs pos="100000">
                <a:srgbClr val="fbe4a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1295280" y="586728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380880" y="192240"/>
            <a:ext cx="8305920" cy="85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  <a:cs typeface="Traditional Arabic"/>
              </a:rPr>
              <a:t>أرجـو أن أكـون قـد وفقـت إلى عـمل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  <a:cs typeface="Traditional Arabic"/>
              </a:rPr>
              <a:t>ينفـع الله بـه جميع المهتمين بهـذا المجـال</a:t>
            </a:r>
            <a:r>
              <a:rPr b="1" lang="en-US" sz="4800" spc="-1" strike="noStrike">
                <a:solidFill>
                  <a:srgbClr val="003300"/>
                </a:solidFill>
                <a:latin typeface="Times New Roman"/>
                <a:ea typeface="Traditional Arabic"/>
              </a:rPr>
              <a:t> </a:t>
            </a:r>
            <a:r>
              <a:rPr b="1" lang="ar-SA" sz="4800" spc="-1" strike="noStrike">
                <a:solidFill>
                  <a:srgbClr val="003300"/>
                </a:solidFill>
                <a:latin typeface="Times New Roman"/>
                <a:cs typeface="Traditional Arabic"/>
              </a:rPr>
              <a:t>مـن طلاب ومعـلمـين وهواة فما ك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  <a:cs typeface="Traditional Arabic"/>
              </a:rPr>
              <a:t>فيه من خير فمن الله وما كان  فيـه م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  <a:cs typeface="Traditional Arabic"/>
              </a:rPr>
              <a:t>تقـصير فمني ومن الشيطا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  <p:sndAc>
      <p:stSnd>
        <p:snd r:embed="rId3" name="CAMERA.WAV"/>
      </p:stSnd>
    </p:sndAc>
  </p:transition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botz%20Asteris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3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22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33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3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660033"/>
                </a:solidFill>
                <a:latin typeface="Times New Roman"/>
              </a:rPr>
              <a:t>منسوبو مدرسة الحارث بن هشام يرحبون بالضيوف الكرام</a:t>
            </a:r>
            <a:r>
              <a:rPr b="1" lang="ar-SA" sz="5400" spc="-1" strike="noStrike">
                <a:solidFill>
                  <a:srgbClr val="660033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-1206720" y="1447920"/>
            <a:ext cx="115192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ffff"/>
                </a:solidFill>
                <a:latin typeface="Times New Roman"/>
              </a:rPr>
              <a:t>جماعة التربية الفنية تهنئكم بالعام الدراسي الجديد</a:t>
            </a:r>
            <a:r>
              <a:rPr b="1" lang="ar-SA" sz="55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imes New Roman"/>
              </a:rPr>
              <a:t>ويسعدها ان تقدم لكم مجموعة من الابتكارات الجديدة م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ar-SA" sz="3300" spc="-1" strike="noStrike">
                <a:solidFill>
                  <a:srgbClr val="3333cc"/>
                </a:solidFill>
                <a:latin typeface="Times New Roman"/>
              </a:rPr>
              <a:t>الوسائل التعليمية التي تيسر للطالب فهم العديد من القيم الفنية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76320" y="3962520"/>
            <a:ext cx="3581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</a:rPr>
              <a:t>مع تحيات مدرس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76320" y="4495680"/>
            <a:ext cx="3124080" cy="914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/>
    <p:sndAc>
      <p:stSnd>
        <p:snd r:embed="rId2" name="CAMERA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4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1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1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600"/>
                            </p:stCondLst>
                            <p:childTnLst>
                              <p:par>
                                <p:cTn id="6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724280" y="1066680"/>
            <a:ext cx="1067040" cy="4496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أصف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5791320" y="1066680"/>
            <a:ext cx="1066680" cy="4496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برتق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58000" y="1066680"/>
            <a:ext cx="1219320" cy="44960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أح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447920" y="1066680"/>
            <a:ext cx="1066680" cy="449604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بنفس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2514600" y="1066680"/>
            <a:ext cx="1066680" cy="4496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أزر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581280" y="1066680"/>
            <a:ext cx="1143000" cy="44960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أخض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1066680" y="5739480"/>
            <a:ext cx="71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000000"/>
                </a:solidFill>
                <a:latin typeface="Times New Roman"/>
              </a:rPr>
              <a:t>ترتيب الألوا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9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3"/>
          <p:cNvSpPr/>
          <p:nvPr/>
        </p:nvSpPr>
        <p:spPr>
          <a:xfrm>
            <a:off x="838080" y="0"/>
            <a:ext cx="3657600" cy="3505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572000" y="228600"/>
            <a:ext cx="3505320" cy="3352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5"/>
          <p:cNvSpPr/>
          <p:nvPr/>
        </p:nvSpPr>
        <p:spPr>
          <a:xfrm>
            <a:off x="2666880" y="3124080"/>
            <a:ext cx="3657600" cy="3733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876920" y="14011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  أزرق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371600" y="1362960"/>
            <a:ext cx="241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657600" y="4525200"/>
            <a:ext cx="18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أ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28600" y="403776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ألوان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           الأساسية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2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7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8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400"/>
                            </p:stCondLst>
                            <p:childTnLst>
                              <p:par>
                                <p:cTn id="140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2400"/>
                            </p:stCondLst>
                            <p:childTnLst>
                              <p:par>
                                <p:cTn id="145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61"/>
          <p:cNvSpPr/>
          <p:nvPr/>
        </p:nvSpPr>
        <p:spPr>
          <a:xfrm>
            <a:off x="-860760" y="5866920"/>
            <a:ext cx="111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عند خلط اللونين الأحمر و الأصفر ينتج عنهما اللون البر تقا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062"/>
          <p:cNvSpPr/>
          <p:nvPr/>
        </p:nvSpPr>
        <p:spPr>
          <a:xfrm>
            <a:off x="2666880" y="914400"/>
            <a:ext cx="586764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063"/>
          <p:cNvSpPr/>
          <p:nvPr/>
        </p:nvSpPr>
        <p:spPr>
          <a:xfrm>
            <a:off x="609480" y="2438280"/>
            <a:ext cx="5639040" cy="3048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064"/>
          <p:cNvSpPr/>
          <p:nvPr/>
        </p:nvSpPr>
        <p:spPr>
          <a:xfrm>
            <a:off x="2666880" y="2438280"/>
            <a:ext cx="3581640" cy="1600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065"/>
          <p:cNvSpPr/>
          <p:nvPr/>
        </p:nvSpPr>
        <p:spPr>
          <a:xfrm>
            <a:off x="5943600" y="1294560"/>
            <a:ext cx="2647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</a:rPr>
              <a:t>  أحم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066"/>
          <p:cNvSpPr/>
          <p:nvPr/>
        </p:nvSpPr>
        <p:spPr>
          <a:xfrm>
            <a:off x="1252080" y="4266360"/>
            <a:ext cx="156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67"/>
          <p:cNvSpPr/>
          <p:nvPr/>
        </p:nvSpPr>
        <p:spPr>
          <a:xfrm>
            <a:off x="3407760" y="2818800"/>
            <a:ext cx="212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Times New Roman"/>
              </a:rPr>
              <a:t>برتقالي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069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7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9325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625"/>
                            </p:stCondLst>
                            <p:childTnLst>
                              <p:par>
                                <p:cTn id="18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295280" y="2133720"/>
            <a:ext cx="4496040" cy="342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429000" y="685800"/>
            <a:ext cx="449568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29000" y="2133720"/>
            <a:ext cx="2362320" cy="17524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6261120" y="129456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038680" y="4037760"/>
            <a:ext cx="129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أصف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30640" y="27424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-739080" y="5866920"/>
            <a:ext cx="1068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عند خلط اللونين الأزرق و الأصفر ينتج عنهما اللون الأخض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5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7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75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3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743200" y="533520"/>
            <a:ext cx="5334120" cy="3429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990720" y="2286000"/>
            <a:ext cx="548640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743200" y="2286000"/>
            <a:ext cx="3733920" cy="1676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5549760" y="121860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زر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640960" y="4114080"/>
            <a:ext cx="12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حم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657600" y="281880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   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-741960" y="5620680"/>
            <a:ext cx="1103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عند خلط اللونين الأزرق والأحمر ينتج عنهما اللون البنفس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" descr="BIRD008"/>
          <p:cNvPicPr/>
          <p:nvPr/>
        </p:nvPicPr>
        <p:blipFill>
          <a:blip r:embed="rId1"/>
          <a:stretch/>
        </p:blipFill>
        <p:spPr>
          <a:xfrm>
            <a:off x="9144000" y="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50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200"/>
                            </p:stCondLst>
                            <p:childTnLst>
                              <p:par>
                                <p:cTn id="281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257800" y="685800"/>
            <a:ext cx="2743200" cy="2514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111720" y="16758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أخض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38080" y="762120"/>
            <a:ext cx="2514600" cy="243828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58200" y="1751760"/>
            <a:ext cx="193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نفسج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048120" y="3733920"/>
            <a:ext cx="2666880" cy="2514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610080" y="4647600"/>
            <a:ext cx="173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برتقال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553080" y="4190040"/>
            <a:ext cx="221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ألوا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33520" y="43045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فرعي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BIRD008"/>
          <p:cNvPicPr/>
          <p:nvPr/>
        </p:nvPicPr>
        <p:blipFill>
          <a:blip r:embed="rId1"/>
          <a:stretch/>
        </p:blipFill>
        <p:spPr>
          <a:xfrm>
            <a:off x="9144000" y="5081760"/>
            <a:ext cx="1986120" cy="1776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  <p:sndAc>
      <p:stSnd>
        <p:snd r:embed="rId2" name="CAMERA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800"/>
                            </p:stCondLst>
                            <p:childTnLst>
                              <p:par>
                                <p:cTn id="29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3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60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10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8400"/>
                            </p:stCondLst>
                            <p:childTnLst>
                              <p:par>
                                <p:cTn id="31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400"/>
                            </p:stCondLst>
                            <p:childTnLst>
                              <p:par>
                                <p:cTn id="324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400"/>
                            </p:stCondLst>
                            <p:childTnLst>
                              <p:par>
                                <p:cTn id="329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3:36:13Z</dcterms:created>
  <dc:creator>***</dc:creator>
  <dc:description/>
  <dc:language>en-US</dc:language>
  <cp:lastModifiedBy>user</cp:lastModifiedBy>
  <dcterms:modified xsi:type="dcterms:W3CDTF">2007-09-09T14:02:34Z</dcterms:modified>
  <cp:revision>74</cp:revision>
  <dc:subject/>
  <dc:title>لا يوجد عنوان للشريحة</dc:title>
</cp:coreProperties>
</file>