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B1F2-CE78-4EA8-84A1-CF2001A5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6DDD-F8B8-4BFF-88AC-A5FDDEEC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EA33-3000-498D-AE9B-2068EEAA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4C07-ACB3-4B34-82AC-53D6451F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5521-B06D-43D7-A1D8-B474580A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6F5E-EC5A-4607-B8C8-3FB834AA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3A3A-C6CD-459E-BCCC-6A9AEF36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D9F5-0E56-4368-A8DC-A1883312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D887-26C1-4812-9227-B48F6633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ECEC-786E-46C1-981E-13757EBE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28AD-424F-472F-AC06-BE4023C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C0C5-848E-4A33-A8EE-1A726D0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F50A-F14F-4638-9DA7-8895C86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1EDC-22F0-4A16-8667-53E118A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2731-3C35-4253-9613-C031CA10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DF71-F3B3-4C00-8F82-7C11A4EF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3BF3-3828-43BD-AF12-0BD366AD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70362-0136-4351-B5AA-4E09893A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27FF-F6FE-4895-8A38-D3D9E9B2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EDB9-8E16-414D-8393-EF6D1C33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141A-8C9A-4274-9F02-82551D96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4909-9078-4377-A4F3-7E3646CC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7231-F9D3-490F-97F3-51C69EC3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0024-1CB6-4041-A630-6DE6334A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A123-236F-411B-A3AC-8D1C8D90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5A6C-4C4F-4F27-9181-CFD31B7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4A28-EE31-4CFB-BFB5-54991AB8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9702-3F98-4265-8BDA-4A74723F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2BB5-F2EE-41D6-B958-7D94D2EE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BF276-2ED5-4582-9BA0-259AB4CA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5DBB-C1CC-4EA7-B69E-9C9C2B07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6CC9-3EDD-45A4-A4C8-DCFF8DD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975B8-790D-4068-9072-6F476E8E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DD7E-7E28-40D7-BCB6-DAE19733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DF4C-AC86-4890-935B-7BBD3069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A13D-C9B9-42B0-BA0B-F83AFCE4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48AE-6F87-45A5-B2B5-6DDFA36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3EAD-078B-4730-8DBE-E8823E6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9910-22BB-46BD-9FF9-8A3F0423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760A-E417-4B1B-B284-18EB7AEE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139C5-849D-47FE-8619-006D336B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2FC5-865C-4DAD-9E7A-77AE23E7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DC44-8743-414E-A5BA-6A88BD1A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EC32-2EE6-48F9-83F4-5E32864A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E8C5-BD90-41E4-8AD7-30ED4096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1252C-826F-4822-A62B-DE5FAF72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104C-DA90-4CC8-9AD7-5F2E1B63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B1E9-0D2A-4D2F-AB46-5D95D8C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1BAF-F777-4981-AD9D-E36824B0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5175E-7DF5-4F06-B876-294C479D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730B-FCA2-47CB-AB48-42F0E34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9ACA6-DE4C-4254-BF7F-EB5D8EAE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29ED-5ABD-470E-A4B2-0E6DE70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4F17-7BB6-48D1-9EC6-BE8CDBB1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E230-E786-4343-A355-A1A5082D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73E4-56F9-4EB3-8DC9-5525C0A4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777EE-2D37-4F55-8EE8-970F5D5A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DB6D-8236-41DA-B6F7-B72EEDBE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4758E-ACFF-43F7-8FCA-AB973366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3233-FD80-4164-AEE0-FECEA77F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A85AA-B080-4D85-B400-6C60AFBB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5E746-166A-4736-BB69-A7AAF157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8E921-2B10-4A70-9821-39C84892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77538-088C-4A9B-A8FA-DFB1BA50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4A468-7DE3-4C81-A8AE-990E6B0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EB6E8-8832-42FE-81C9-FFCB4F41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7C51-CFEB-4A8E-844D-6546B803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45073-AD22-4461-9479-F264254D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FB2B-908D-435A-8C8C-BA8579E4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F7B19-FE3D-4D1A-8387-393369F7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7327-E489-4DBF-AFB8-8BD22A7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B036-7321-46DA-9F20-B3CE9D5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B899-6D97-4671-A2C0-2AF4C21942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39D4-0AEE-45C0-A2ED-1759B37BAF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E595-7B98-41DB-9385-5BD320EC609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309C-B7AE-4688-AD56-7DE42409AB0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7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A1B5-069C-49CD-82E0-88B4FA0865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5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1E4-BC86-4A2A-845D-C69FC7331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cc"/>
                </a:solidFill>
                <a:latin typeface="Tahoma"/>
              </a:rPr>
              <a:t>تفاعلات الاضافة في الالكين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تفاعلات الرابطة المزدوج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 Black"/>
              </a:rPr>
              <a:t>نشاط جماع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أكمل المعادلة التالية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0" y="214632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H3              H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     C                +  H   Br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H3           CH3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627280" y="2565360"/>
            <a:ext cx="216000" cy="432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556000" y="3357720"/>
            <a:ext cx="287280" cy="502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92360" y="3284640"/>
            <a:ext cx="142920" cy="431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492000" y="2492280"/>
            <a:ext cx="287640" cy="505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16360" y="3213000"/>
            <a:ext cx="3603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87640" y="3068640"/>
            <a:ext cx="2890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076720" y="3213000"/>
            <a:ext cx="142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3213000"/>
            <a:ext cx="8650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واج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س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أكتب  معادلة تفاعل البروبلين مع كلٍ من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برو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بروميد الهيدروج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ar-SA" sz="4200" spc="-1" strike="noStrike">
                <a:solidFill>
                  <a:srgbClr val="ffffcc"/>
                </a:solidFill>
                <a:latin typeface="Tahoma"/>
              </a:rPr>
              <a:t>-اضافة البرو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ركز الفعال في الالكينات هو الرابطة المزدوجة حيث يوجد تركيز كبير من الالكترونات بين ذرتي الكربون المرتبطتين بهذه الرابط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فتنجذب اليها أجسام موجبة(فقيرة بالالكترونات)ويحدث التفاع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تكسر الرابطة بين ذرتي البرو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_B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تكسر الرابطة باي بين ذرتي الكربو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=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تتكون رابطة سيجما بين ذرة بروم وذرة كربو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ffffcc"/>
                </a:solidFill>
                <a:latin typeface="Tahoma"/>
              </a:rPr>
              <a:t>المعادلة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          H                   H    Br               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    C    +  Br   Br             C       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           CH3                 H            Br  CH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826920" y="342900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00000" y="213372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195280" y="2205000"/>
            <a:ext cx="21564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24000" y="3357720"/>
            <a:ext cx="36036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476360" y="2997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321300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08360" y="31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364000" y="2133720"/>
            <a:ext cx="57636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508360" y="3284640"/>
            <a:ext cx="43164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156360" y="2205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308720" y="3284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51640" y="335772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524360" y="1989000"/>
            <a:ext cx="6476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88000" y="3068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16360" y="314172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   Br                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      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               Br  CH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5076720" y="2133720"/>
            <a:ext cx="64764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148360" y="3284640"/>
            <a:ext cx="576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012000" y="2133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164360" y="3357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7308720" y="220464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80360" y="335772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3068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40360" y="3141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   Br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1989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          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   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           CH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900000" y="227664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971640" y="3284640"/>
            <a:ext cx="21564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195280" y="2205000"/>
            <a:ext cx="21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268360" y="3357720"/>
            <a:ext cx="43200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547640" y="299736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547640" y="3284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 Black"/>
              </a:rPr>
              <a:t>نشاط جماع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أكتب معادلة تفاعل الايثلين مع البروم 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ar-SA" sz="4200" spc="-1" strike="noStrike">
                <a:solidFill>
                  <a:srgbClr val="ffffcc"/>
                </a:solidFill>
                <a:latin typeface="Tahoma"/>
              </a:rPr>
              <a:t>-اضافة بروميد الهيدروجين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رابطة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-B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قطبية بحيث يقترب الكترونا الرابطة نحو البروم أكثر من الهيدروج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ينجذب الى الرابطة المزدوجة بحيث ينجذب أيون الهيدروجين الموجب الى أحد وجهي الرابطة وينجذب أيون البروم السالب الى الوجه الآخر للرابط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يون الهيدروجين الموجب يضاف الى ذرة الكربون التي </a:t>
            </a:r>
            <a:r>
              <a:rPr b="0" lang="ar-SA" sz="4000" spc="-1" strike="noStrike">
                <a:solidFill>
                  <a:srgbClr val="ebf25a"/>
                </a:solidFill>
                <a:latin typeface="Tahoma"/>
              </a:rPr>
              <a:t>تحمل أكبر عدد من ذرات الهيدروجين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ffffcc"/>
                </a:solidFill>
                <a:latin typeface="Tahoma"/>
              </a:rPr>
              <a:t>المعادلة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             H                       H        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    C    +  H   Br        H   C       C   CH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          CH3                       H       B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1403280" y="3213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03280" y="2997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00000" y="2133720"/>
            <a:ext cx="21600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900000" y="342900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95640" y="342900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268360" y="2276640"/>
            <a:ext cx="28764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580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372360" y="30686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38036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206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84720" y="3357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308720" y="2133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7308720" y="3357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635280" y="3068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356000" y="3141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2:53:57Z</dcterms:created>
  <dc:creator>jet9</dc:creator>
  <dc:description/>
  <dc:language>en-US</dc:language>
  <cp:lastModifiedBy>othman noor</cp:lastModifiedBy>
  <dcterms:modified xsi:type="dcterms:W3CDTF">2006-05-04T00:23:15Z</dcterms:modified>
  <cp:revision>3</cp:revision>
  <dc:subject/>
  <dc:title>تفاعلات الاضافة في الايثلين</dc:title>
</cp:coreProperties>
</file>