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21.gif" ContentType="image/gif"/>
  <Override PartName="/ppt/media/image19.gif" ContentType="image/gif"/>
  <Override PartName="/ppt/media/image18.gif" ContentType="image/gif"/>
  <Override PartName="/ppt/media/image53.png" ContentType="image/png"/>
  <Override PartName="/ppt/media/image26.png" ContentType="image/png"/>
  <Override PartName="/ppt/media/image33.gif" ContentType="image/gif"/>
  <Override PartName="/ppt/media/image23.gif" ContentType="image/gif"/>
  <Override PartName="/ppt/media/image17.jpeg" ContentType="image/jpeg"/>
  <Override PartName="/ppt/media/image12.gif" ContentType="image/gif"/>
  <Override PartName="/ppt/media/image49.gif" ContentType="image/gif"/>
  <Override PartName="/ppt/media/image16.gif" ContentType="image/gif"/>
  <Override PartName="/ppt/media/image15.jpeg" ContentType="image/jpeg"/>
  <Override PartName="/ppt/media/image29.gif" ContentType="image/gif"/>
  <Override PartName="/ppt/media/image14.gif" ContentType="image/gif"/>
  <Override PartName="/ppt/media/image13.gif" ContentType="image/gif"/>
  <Override PartName="/ppt/media/image22.jpeg" ContentType="image/jpeg"/>
  <Override PartName="/ppt/media/image46.gif" ContentType="image/gif"/>
  <Override PartName="/ppt/media/%D8%B1%D8%B9%D8%AF.wav" ContentType="audio/x-wav"/>
  <Override PartName="/ppt/media/image1.jpeg" ContentType="image/jpeg"/>
  <Override PartName="/ppt/media/image10.png" ContentType="image/png"/>
  <Override PartName="/ppt/media/lightning%20cool.wav" ContentType="audio/x-wav"/>
  <Override PartName="/ppt/media/image25.gif" ContentType="image/gif"/>
  <Override PartName="/ppt/media/image6.jpeg" ContentType="image/jpeg"/>
  <Override PartName="/ppt/media/image2.gif" ContentType="image/gif"/>
  <Override PartName="/ppt/media/image32.gif" ContentType="image/gif"/>
  <Override PartName="/ppt/media/image42.png" ContentType="image/png"/>
  <Override PartName="/ppt/media/image40.gif" ContentType="image/gif"/>
  <Override PartName="/ppt/media/image41.gif" ContentType="image/gif"/>
  <Override PartName="/ppt/media/image43.png" ContentType="image/png"/>
  <Override PartName="/ppt/media/image50.gif" ContentType="image/gif"/>
  <Override PartName="/ppt/media/image48.gif" ContentType="image/gif"/>
  <Override PartName="/ppt/media/image44.gif" ContentType="image/gif"/>
  <Override PartName="/ppt/media/image45.gif" ContentType="image/gif"/>
  <Override PartName="/ppt/media/image47.gif" ContentType="image/gif"/>
  <Override PartName="/ppt/media/image3.jpeg" ContentType="image/jpeg"/>
  <Override PartName="/ppt/media/image36.gif" ContentType="image/gif"/>
  <Override PartName="/ppt/media/image37.gif" ContentType="image/gif"/>
  <Override PartName="/ppt/media/image52.jpeg" ContentType="image/jpeg"/>
  <Override PartName="/ppt/media/image30.gif" ContentType="image/gif"/>
  <Override PartName="/ppt/media/image28.gif" ContentType="image/gif"/>
  <Override PartName="/ppt/media/image51.gif" ContentType="image/gif"/>
  <Override PartName="/ppt/media/image34.gif" ContentType="image/gif"/>
  <Override PartName="/ppt/media/image39.gif" ContentType="image/gif"/>
  <Override PartName="/ppt/media/image9.gif" ContentType="image/gif"/>
  <Override PartName="/ppt/media/image31.gif" ContentType="image/gif"/>
  <Override PartName="/ppt/media/image11.jpeg" ContentType="image/jpeg"/>
  <Override PartName="/ppt/media/image27.jpeg" ContentType="image/jpeg"/>
  <Override PartName="/ppt/media/image38.gif" ContentType="image/gif"/>
  <Override PartName="/ppt/media/image8.gif" ContentType="image/gif"/>
  <Override PartName="/ppt/media/image4.jpeg" ContentType="image/jpeg"/>
  <Override PartName="/ppt/media/image5.gif" ContentType="image/gif"/>
  <Override PartName="/ppt/media/image35.gif" ContentType="image/gif"/>
  <Override PartName="/ppt/media/image7.jpeg" ContentType="image/jpe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991-E3D9-4DB5-9970-B645819D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CA5-08CB-4A8A-AEA0-8F0E0FD9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46B-08DC-4CA5-8708-D3AF4DC9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1CA-68BD-4046-AEE5-D83D85FA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BB5E-D1DB-4C02-8DD7-9D727FF4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CCB-236E-473B-94FF-6CCDA612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C085-8223-427B-9B9E-3644DD2F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DA8-81DC-4931-B525-1BAB7FCD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0F7-79B9-4ABE-BCED-AC064516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87D3-6B24-402C-8C30-425CAB75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A3A-8D1B-48A3-9B9B-68054EC7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C2B5-979C-498B-B22A-31359A22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1473-F0E4-46B5-B5EB-00A8A9C2C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ightning%20cool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hyperlink" Target="http://images.google.com.sa/imgres?imgurl=http://www.mystaticguard.com/images/history-image-bottle.jpg&amp;imgrefurl=http://www.mystaticguard.com/static-guard-news/inthenews.cfm&amp;h=290&amp;w=170&amp;sz=15&amp;hl=ar&amp;start=24&amp;um=1&amp;tbnid=s-Y_ygYf7rhniM:&amp;tbnh=115&amp;tbnw=67&amp;prev=/images%3Fq%3D%2BStatic%2BGuard%26start%3D20%26ndsp%3D20%26svnum%3D10%26um%3D1%26hl%3Dar%26sa%3DN" TargetMode="External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9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hyperlink" Target="http://www.upload2world.com/" TargetMode="External"/><Relationship Id="rId4" Type="http://schemas.openxmlformats.org/officeDocument/2006/relationships/image" Target="../media/image16.gif"/><Relationship Id="rId5" Type="http://schemas.openxmlformats.org/officeDocument/2006/relationships/audio" Target="../media/&#1585;&#1593;&#1583;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قال تعالى :</a:t>
            </a:r>
            <a:r>
              <a:rPr b="1" lang="ar-SA" sz="4400" spc="-1" strike="noStrike">
                <a:solidFill>
                  <a:srgbClr val="cc00cc"/>
                </a:solidFill>
                <a:latin typeface="Arial"/>
              </a:rPr>
              <a:t> {هو الذي يريكم البرق خوفا وطمعا وينشئ السحاب الثقال، ويسبح الرعد بحمده والملائكة من خيفته ويرسل الصواعق فيصيب بها من يشاء وهم يجادلون في الله وهو شديد المحال}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4679640" cy="351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932360" y="4292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سورة الرع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ightning%20coo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3473640" cy="3787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55640" y="4005360"/>
            <a:ext cx="1800360" cy="12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804000" y="4149720"/>
            <a:ext cx="1800360" cy="1200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333399"/>
                </a:solidFill>
                <a:latin typeface="Arial"/>
              </a:rPr>
              <a:t>الكهرمـــا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826920" y="382680"/>
            <a:ext cx="345780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50920" y="4581360"/>
            <a:ext cx="1800360" cy="1408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932360" y="4653000"/>
            <a:ext cx="1604880" cy="1254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484360" y="549360"/>
            <a:ext cx="409248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800080"/>
                </a:solidFill>
                <a:latin typeface="Arial"/>
              </a:rPr>
              <a:t>تعريف الكهربا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333399"/>
                </a:solidFill>
                <a:latin typeface="Arial"/>
              </a:rPr>
              <a:t>جذب الكهرمان لبعض الأجسام الخفيف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66978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800080"/>
                </a:solidFill>
                <a:latin typeface="Arial"/>
              </a:rPr>
              <a:t>أنواع الكهربا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03640" y="3141360"/>
            <a:ext cx="36943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333399"/>
                </a:solidFill>
                <a:latin typeface="Arial"/>
              </a:rPr>
              <a:t>كهرباء ساكن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419640" y="4292640"/>
            <a:ext cx="2304720" cy="2233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932360" y="1413000"/>
            <a:ext cx="2232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123640" y="1413000"/>
            <a:ext cx="18716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141720"/>
            <a:ext cx="43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333399"/>
                </a:solidFill>
                <a:latin typeface="Arial"/>
              </a:rPr>
              <a:t>كهرباء متحرك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1836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cc00cc"/>
                </a:solidFill>
                <a:latin typeface="Arial"/>
              </a:rPr>
              <a:t>ورقة عمل ( </a:t>
            </a:r>
            <a:r>
              <a:rPr b="1" lang="en-US" sz="6000" spc="-1" strike="noStrike">
                <a:solidFill>
                  <a:srgbClr val="cc00cc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cc00cc"/>
                </a:solidFill>
                <a:latin typeface="Arial"/>
              </a:rPr>
              <a:t> 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1728720" cy="1604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76720" y="3860640"/>
            <a:ext cx="2808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908000" y="3860640"/>
            <a:ext cx="31370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16360" y="-360000"/>
            <a:ext cx="50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800080"/>
                </a:solidFill>
                <a:uFillTx/>
                <a:latin typeface="Arial"/>
                <a:cs typeface="Times New Roman"/>
              </a:rPr>
              <a:t>الزمن المتوقع : </a:t>
            </a:r>
            <a:r>
              <a:rPr b="1" lang="ar-SA" sz="3600" spc="-1" strike="noStrike" u="sng">
                <a:solidFill>
                  <a:srgbClr val="800080"/>
                </a:solidFill>
                <a:uFillTx/>
                <a:latin typeface="Arial"/>
                <a:ea typeface="Times New Roman"/>
              </a:rPr>
              <a:t>3</a:t>
            </a:r>
            <a:r>
              <a:rPr b="1" lang="ar-SA" sz="3600" spc="-1" strike="noStrike" u="sng">
                <a:solidFill>
                  <a:srgbClr val="800080"/>
                </a:solidFill>
                <a:uFillTx/>
                <a:latin typeface="Arial"/>
                <a:ea typeface="Times New Roman"/>
              </a:rPr>
              <a:t> دقائ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1341720"/>
            <a:ext cx="8042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cc00cc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00cc"/>
                </a:solidFill>
                <a:latin typeface="Arial"/>
                <a:cs typeface="Times New Roman"/>
              </a:rPr>
              <a:t>عرفي الكهرباء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00cc"/>
                </a:solidFill>
                <a:latin typeface="Arial"/>
                <a:ea typeface="Times New Roman"/>
              </a:rPr>
              <a:t>2</a:t>
            </a:r>
            <a:r>
              <a:rPr b="1" lang="ar-SA" sz="4800" spc="-1" strike="noStrike">
                <a:solidFill>
                  <a:srgbClr val="cc00cc"/>
                </a:solidFill>
                <a:latin typeface="Arial"/>
                <a:ea typeface="Times New Roman"/>
              </a:rPr>
              <a:t>- أنواع الكهربا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4271400"/>
            <a:ext cx="8964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SA" sz="4400" spc="-1" strike="noStrike">
                <a:solidFill>
                  <a:srgbClr val="333399"/>
                </a:solidFill>
                <a:latin typeface="Arial"/>
                <a:ea typeface="Arial"/>
              </a:rPr>
              <a:t> كهرباء ساكنة               كهرباء متحرك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989000"/>
            <a:ext cx="74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333399"/>
                </a:solidFill>
                <a:latin typeface="Arial"/>
              </a:rPr>
              <a:t>جذب الكهرمان لبعض الأجسام الخفيف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FOfficeDoc1"/>
          <p:cNvGraphicFramePr/>
          <p:nvPr/>
        </p:nvGraphicFramePr>
        <p:xfrm>
          <a:off x="900000" y="44280"/>
          <a:ext cx="7488360" cy="584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4280"/>
                    <a:ext cx="7488360" cy="58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800080"/>
                </a:solidFill>
                <a:latin typeface="Arial"/>
              </a:rPr>
              <a:t>ماذا يحدث بعد دلك المواد 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618160" cy="439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940360" y="2849400"/>
            <a:ext cx="2087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332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800080"/>
                </a:solidFill>
                <a:latin typeface="Arial"/>
              </a:rPr>
              <a:t>المتسلسلة الكهرب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964720" cy="721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+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•الزجاج.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شعر الإنسان.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النايلون.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الصوف.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الفراء.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الحرير.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الألمنيوم.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الورق.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الخشب.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حجر العنبر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المطاط الصلب. </a:t>
            </a:r>
            <a:br>
              <a:rPr sz="32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النيكل، النحاس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35280" y="2924280"/>
            <a:ext cx="3353040" cy="147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31669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800080"/>
                </a:solidFill>
                <a:latin typeface="Arial"/>
              </a:rPr>
              <a:t>حري</a:t>
            </a: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ـــ</a:t>
            </a:r>
            <a:r>
              <a:rPr b="1" lang="ar-SA" sz="4800" spc="-1" strike="noStrike">
                <a:solidFill>
                  <a:srgbClr val="800080"/>
                </a:solidFill>
                <a:latin typeface="Arial"/>
              </a:rPr>
              <a:t>ـر + زجا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800080"/>
                </a:solidFill>
                <a:latin typeface="Arial"/>
              </a:rPr>
              <a:t>صوف + أبونيت</a:t>
            </a:r>
            <a:r>
              <a:rPr b="1" lang="ar-SA" sz="4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8101080" y="3860640"/>
            <a:ext cx="358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44000" y="3716280"/>
            <a:ext cx="0" cy="2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2232360" cy="2232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63640" y="4835520"/>
            <a:ext cx="410364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800080"/>
                </a:solidFill>
                <a:latin typeface="Arial"/>
              </a:rPr>
              <a:t>ما هي الكهرباء الساكنة ؟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92720" y="3141720"/>
            <a:ext cx="2131920" cy="2211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3528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800080"/>
                </a:solidFill>
                <a:latin typeface="Arial"/>
              </a:rPr>
              <a:t>لماذا يتطاير الشعر عند لمس مولد فاندي غراف 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5977080" cy="876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195640" y="2781360"/>
            <a:ext cx="47527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800080"/>
                </a:solidFill>
                <a:latin typeface="Arial"/>
              </a:rPr>
              <a:t>نشاط عمل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1800000" cy="1552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87640" y="2297160"/>
            <a:ext cx="39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2492280"/>
            <a:ext cx="777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333399"/>
                </a:solidFill>
                <a:latin typeface="Arial"/>
              </a:rPr>
              <a:t>تفضلي لاستلام الأدوات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cc00cc"/>
                </a:solidFill>
                <a:latin typeface="Arial"/>
              </a:rPr>
              <a:t>الأدوات 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2708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333399"/>
                </a:solidFill>
                <a:latin typeface="Arial"/>
              </a:rPr>
              <a:t>مصاصة عصير ، ماء ، </a:t>
            </a:r>
            <a:r>
              <a:rPr b="1" lang="hi-IN" sz="5400" spc="-1" strike="noStrike">
                <a:solidFill>
                  <a:srgbClr val="ff0000"/>
                </a:solidFill>
                <a:latin typeface="Arial"/>
              </a:rPr>
              <a:t>قطعة قماش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 ، وعــا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244764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35164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800080"/>
                </a:solidFill>
                <a:latin typeface="Arial"/>
              </a:rPr>
              <a:t>أين قطعة القماش ؟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22320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cc00cc"/>
                </a:solidFill>
                <a:latin typeface="Arial"/>
              </a:rPr>
              <a:t>القماش هو قميص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cc00cc"/>
                </a:solidFill>
                <a:latin typeface="Arial"/>
              </a:rPr>
              <a:t>ورقة عمل ( </a:t>
            </a:r>
            <a:r>
              <a:rPr b="1" lang="en-US" sz="7200" spc="-1" strike="noStrike">
                <a:solidFill>
                  <a:srgbClr val="cc00cc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cc00cc"/>
                </a:solidFill>
                <a:latin typeface="Arial"/>
              </a:rPr>
              <a:t> ) نشاط عمل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84000" y="1989000"/>
            <a:ext cx="620244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الزمن المتوقع : خمس دقائ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2233800" cy="1436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2448000" cy="1243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364500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800080"/>
                </a:solidFill>
                <a:uFillTx/>
                <a:latin typeface="Arial"/>
                <a:cs typeface="Times New Roman"/>
              </a:rPr>
              <a:t>الأدوات :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Times New Roman"/>
              </a:rPr>
              <a:t>  مصاصة عصير ، ماء ، قطعة قماش ، وعــ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08000" y="1600200"/>
          <a:ext cx="9035640" cy="4997520"/>
        </p:xfrm>
        <a:graphic>
          <a:graphicData uri="http://schemas.openxmlformats.org/drawingml/2006/table">
            <a:tbl>
              <a:tblPr/>
              <a:tblGrid>
                <a:gridCol w="3256920"/>
                <a:gridCol w="2889360"/>
                <a:gridCol w="28893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الاستنتا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المشاهد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التجرب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لماذا 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ماذا يحدث لمسار المــاء 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800080"/>
                          </a:solidFill>
                          <a:latin typeface="Times New Roman"/>
                          <a:cs typeface="Times New Roman"/>
                        </a:rPr>
                        <a:t>ادلكي مصاصة العصير بطريقة صحيحة بقميصك ثم قربيها من المــاء المنساب من القارور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114480"/>
            <a:ext cx="2737080" cy="1388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419640" y="3860640"/>
            <a:ext cx="230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3399"/>
                </a:solidFill>
                <a:latin typeface="Arial"/>
              </a:rPr>
              <a:t>ينجذب الماء نحو المصاص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2803680"/>
            <a:ext cx="30240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بسبب الكهرباء الساكن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المصاصة بعد الدلك تكونت عليها شحنات جذبت الما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333360"/>
            <a:ext cx="62024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الزمن المتوقع : خمس دقائ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cc00cc"/>
                </a:solidFill>
                <a:latin typeface="Arial"/>
              </a:rPr>
              <a:t>كيف جذبت المصاصة الماء 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214956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FOfficeDoc1"/>
          <p:cNvGraphicFramePr/>
          <p:nvPr/>
        </p:nvGraphicFramePr>
        <p:xfrm>
          <a:off x="971640" y="333360"/>
          <a:ext cx="7272360" cy="59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33360"/>
                    <a:ext cx="727236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FOfficeDoc1"/>
          <p:cNvGraphicFramePr/>
          <p:nvPr/>
        </p:nvGraphicFramePr>
        <p:xfrm>
          <a:off x="1403280" y="190440"/>
          <a:ext cx="6553440" cy="627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0440"/>
                    <a:ext cx="6553440" cy="627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52480" y="33336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cc00cc"/>
                </a:solidFill>
                <a:latin typeface="Arial"/>
              </a:rPr>
              <a:t>مما سبق ما هي الكهرباء الساكنة 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3399"/>
                </a:solidFill>
                <a:latin typeface="Arial"/>
              </a:rPr>
              <a:t>إمكانية جذب جسم مشحون لبعض المواد الأخر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2087640" cy="1392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708360" y="4724280"/>
            <a:ext cx="17287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5977080" cy="876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0" r="0" b="19724"/>
          <a:stretch/>
        </p:blipFill>
        <p:spPr>
          <a:xfrm>
            <a:off x="2700360" y="1268280"/>
            <a:ext cx="4392720" cy="405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908000" y="5437080"/>
            <a:ext cx="151308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00cc"/>
                </a:solidFill>
                <a:latin typeface="Arial"/>
              </a:rPr>
              <a:t>متى تصبح الشحنة موجبة ومتى تصبح سالبة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- إذا انتقل الإلكترون </a:t>
            </a:r>
            <a:r>
              <a:rPr b="0" lang="hi-IN" sz="4800" spc="-1" strike="noStrike">
                <a:solidFill>
                  <a:srgbClr val="ff0000"/>
                </a:solidFill>
                <a:latin typeface="Arial"/>
              </a:rPr>
              <a:t>إلى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المادة تصبح شحنتها </a:t>
            </a:r>
            <a:r>
              <a:rPr b="0" lang="hi-IN" sz="4800" spc="-1" strike="noStrike">
                <a:solidFill>
                  <a:srgbClr val="ff0000"/>
                </a:solidFill>
                <a:latin typeface="Arial"/>
              </a:rPr>
              <a:t>سال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36560" y="1268280"/>
            <a:ext cx="1316160" cy="3097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9640" y="400536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80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800080"/>
                </a:solidFill>
                <a:latin typeface="Arial"/>
              </a:rPr>
              <a:t>- إذا انتقل الإلكترون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i-IN" sz="4800" spc="-1" strike="noStrike">
                <a:solidFill>
                  <a:srgbClr val="ff0000"/>
                </a:solidFill>
                <a:latin typeface="Arial"/>
              </a:rPr>
              <a:t>من </a:t>
            </a:r>
            <a:r>
              <a:rPr b="0" lang="hi-IN" sz="4800" spc="-1" strike="noStrike">
                <a:solidFill>
                  <a:srgbClr val="800080"/>
                </a:solidFill>
                <a:latin typeface="Arial"/>
              </a:rPr>
              <a:t>المادة تصبح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i-IN" sz="4800" spc="-1" strike="noStrike">
                <a:solidFill>
                  <a:srgbClr val="800080"/>
                </a:solidFill>
                <a:latin typeface="Arial"/>
              </a:rPr>
              <a:t>شحنتها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i-IN" sz="4800" spc="-1" strike="noStrike">
                <a:solidFill>
                  <a:srgbClr val="ff0000"/>
                </a:solidFill>
                <a:latin typeface="Arial"/>
              </a:rPr>
              <a:t>موج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800080"/>
                </a:solidFill>
                <a:latin typeface="Arial"/>
              </a:rPr>
              <a:t>ورقة عمل ( 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3200" y="475920"/>
            <a:ext cx="39704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333399"/>
                </a:solidFill>
                <a:uFillTx/>
                <a:latin typeface="Arial"/>
              </a:rPr>
              <a:t>الزمن المتوقع :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3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 دقائ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2377800" cy="1720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1269000"/>
            <a:ext cx="9144000" cy="53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أكملي الفراغات التالية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80"/>
                </a:solidFill>
                <a:latin typeface="Arial"/>
                <a:ea typeface="Times New Roman"/>
              </a:rPr>
              <a:t>1- </a:t>
            </a:r>
            <a:r>
              <a:rPr b="1" lang="ar-SA" sz="4400" spc="-1" strike="noStrike">
                <a:solidFill>
                  <a:srgbClr val="800080"/>
                </a:solidFill>
                <a:latin typeface="Arial"/>
                <a:cs typeface="Times New Roman"/>
              </a:rPr>
              <a:t>الكهرباء الساكنة هي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80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800080"/>
                </a:solidFill>
                <a:latin typeface="Arial"/>
              </a:rPr>
              <a:t>-إذا انتقلت الإلكترونات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إلى </a:t>
            </a:r>
            <a:r>
              <a:rPr b="1" lang="ar-SA" sz="4400" spc="-1" strike="noStrike">
                <a:solidFill>
                  <a:srgbClr val="800080"/>
                </a:solidFill>
                <a:latin typeface="Arial"/>
              </a:rPr>
              <a:t>المادة تصبح مشحونة بشحن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80"/>
                </a:solidFill>
                <a:latin typeface="Arial"/>
              </a:rPr>
              <a:t>وإذا انتقلت الإلكترونات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من</a:t>
            </a:r>
            <a:r>
              <a:rPr b="1" lang="ar-SA" sz="4400" spc="-1" strike="noStrike">
                <a:solidFill>
                  <a:srgbClr val="800080"/>
                </a:solidFill>
                <a:latin typeface="Arial"/>
              </a:rPr>
              <a:t> المادة تصبح مشحونة بشحن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1640" y="2565360"/>
            <a:ext cx="58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2781360"/>
            <a:ext cx="86043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3399"/>
                </a:solidFill>
                <a:latin typeface="Arial"/>
              </a:rPr>
              <a:t>إمكانية جذب جسم مشحون لبعض المواد الأخ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92360" y="4508640"/>
            <a:ext cx="137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3399"/>
                </a:solidFill>
                <a:latin typeface="Arial"/>
              </a:rPr>
              <a:t>سالب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11280" y="5877000"/>
            <a:ext cx="13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3399"/>
                </a:solidFill>
                <a:latin typeface="Arial"/>
              </a:rPr>
              <a:t>موجب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cc00cc"/>
                </a:solidFill>
                <a:latin typeface="Arial"/>
              </a:rPr>
              <a:t>تقييم ذات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713120" cy="3757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27640" y="3373560"/>
            <a:ext cx="1511280" cy="1280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443640" y="189000"/>
            <a:ext cx="17859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cc00cc"/>
                </a:solidFill>
                <a:latin typeface="Arial"/>
              </a:rPr>
              <a:t>التطبي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2133720" cy="2232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1484280"/>
            <a:ext cx="3509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421000"/>
            <a:ext cx="82296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800080"/>
                </a:solidFill>
                <a:latin typeface="Arial"/>
              </a:rPr>
              <a:t>المجموعة الفائز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148360" y="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2016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cc00cc"/>
                </a:solidFill>
                <a:latin typeface="Arial"/>
              </a:rPr>
              <a:t>الملخص السبور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80"/>
                </a:solidFill>
                <a:latin typeface="Arial"/>
              </a:rPr>
              <a:t>الكهرب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0080"/>
                </a:solidFill>
                <a:uFillTx/>
                <a:latin typeface="Arial"/>
              </a:rPr>
              <a:t> تعريف الكهرباء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800080"/>
                </a:solidFill>
                <a:uFillTx/>
                <a:latin typeface="Arial"/>
              </a:rPr>
              <a:t>أنواع الكهرباء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800080"/>
                </a:solidFill>
                <a:uFillTx/>
                <a:latin typeface="Arial"/>
              </a:rPr>
              <a:t>تعريف الكهرباء الساكنة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349360"/>
            <a:ext cx="80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333399"/>
                </a:solidFill>
                <a:latin typeface="Arial"/>
              </a:rPr>
              <a:t>جذب الكهرمان لبعض الأجسام الخفيف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93372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- كهرباء ساكنة  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- كهرباء متحرك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5734080"/>
            <a:ext cx="280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544500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333399"/>
                </a:solidFill>
                <a:latin typeface="Arial"/>
              </a:rPr>
              <a:t>إمكانية جذب جسم مشحون لبعض المواد الأخ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cc00cc"/>
                </a:solidFill>
                <a:latin typeface="Arial"/>
              </a:rPr>
              <a:t>الواج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333399"/>
                </a:solidFill>
                <a:latin typeface="Arial"/>
              </a:rPr>
              <a:t>سؤال 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 صفحة 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13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1737000" cy="2295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116000" y="3705120"/>
            <a:ext cx="388764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800080"/>
                </a:solidFill>
                <a:latin typeface="Arial"/>
              </a:rPr>
              <a:t>لماذا يلتصق البالون بنا عند دلكه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5977080" cy="876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411280" y="2133720"/>
            <a:ext cx="489744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76720" y="765000"/>
            <a:ext cx="4951440" cy="504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55640" y="3693960"/>
            <a:ext cx="208764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800080"/>
                </a:solidFill>
                <a:latin typeface="Arial"/>
              </a:rPr>
              <a:t>لماذا يتطاير شعرك عند تمشيطه في الشتاء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5977080" cy="876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2303280" cy="168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FOfficeDoc1"/>
          <p:cNvGraphicFramePr/>
          <p:nvPr/>
        </p:nvGraphicFramePr>
        <p:xfrm>
          <a:off x="2916360" y="2133720"/>
          <a:ext cx="5715000" cy="428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FOfficeDoc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2133720"/>
                    <a:ext cx="571500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13743" b="0"/>
          <a:stretch/>
        </p:blipFill>
        <p:spPr>
          <a:xfrm>
            <a:off x="2916360" y="333360"/>
            <a:ext cx="5688000" cy="4476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4581360"/>
            <a:ext cx="23032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18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800080"/>
                </a:solidFill>
                <a:latin typeface="Arial"/>
              </a:rPr>
              <a:t>لماذا يتولد بعض الشرار عند المشي على السجاد 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35280" y="2637000"/>
            <a:ext cx="7056360" cy="3895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20890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800080"/>
                </a:solidFill>
                <a:latin typeface="Arial"/>
              </a:rPr>
              <a:t>الـكهـــربــــا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0" t="21346" r="0" b="0"/>
          <a:stretch/>
        </p:blipFill>
        <p:spPr>
          <a:xfrm>
            <a:off x="2987640" y="1844640"/>
            <a:ext cx="5904000" cy="3956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789360"/>
            <a:ext cx="25909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8%B1%D8%B9%D8%A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4:24:03Z</dcterms:created>
  <dc:creator>J</dc:creator>
  <dc:description/>
  <dc:language>en-US</dc:language>
  <cp:lastModifiedBy>J</cp:lastModifiedBy>
  <dcterms:modified xsi:type="dcterms:W3CDTF">2007-04-14T17:28:05Z</dcterms:modified>
  <cp:revision>11</cp:revision>
  <dc:subject/>
  <dc:title>لماذا تسير بعض الحشرات على سطح الماء الراكد ؟؟</dc:title>
</cp:coreProperties>
</file>