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2CD-D9B8-4B54-9BBD-5D2543E7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02F-38AC-4006-85D6-303EFA7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C34-7C4F-4607-BDE7-E443CDA9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C4E-08ED-4931-B0FB-10C245A7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104-9FFA-4E7C-AD1B-80448C10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E270-A446-43C0-8847-7533CE2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9A01-F7A7-4E35-92EC-AEBD300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2F96-2EFD-460E-9DF6-F6C2C84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A42C-AB98-4612-BE74-2ADCDFA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CF47-41E9-4FF1-9910-62D1ABC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EFC6-FF8E-4CB5-AC98-81B95491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E33-120C-44D9-B9D5-852639C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748-D7FF-47BE-92F5-0F830CF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C833-46E4-4856-886F-24297A5E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CD2-85CD-47D6-9927-88B79A40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87A-97FB-4213-97B7-FD51A70A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0BEB-038D-4831-B2C2-228C343B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A29-758C-4A86-BCBE-727B2D8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473-75AB-4B22-927F-F4B7EFE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7DB-6E33-4C3A-B57B-24A48AC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E36-055D-41C6-8470-E87DB21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0C1-9E9B-46B9-B62F-3286F3B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748-ED3A-4AFE-B6A4-84562BA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ADE-AE59-44AF-824D-428B26E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195-7CB0-46B9-8B34-5D7B959DB7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2FD-876B-4881-9F6B-BB038E8594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53276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Unit: 3 Lesson: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ell MT"/>
              </a:rPr>
              <a:t>A refreshing Drin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0728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775640" y="6165720"/>
            <a:ext cx="1368360" cy="6922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4226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Read then Answer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What do you think the most popular drink in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0"/>
            <a:ext cx="5328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 MT"/>
              </a:rPr>
              <a:t>A Refreshing Dr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8944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560" y="148428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Which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rath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rink coffee or tea? Give a reason for your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916360" y="-360"/>
            <a:ext cx="396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2349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1190520" cy="139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981000" cy="1104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Where does coffee come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made of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b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4105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1066680" cy="1238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651640" y="907920"/>
            <a:ext cx="1368360" cy="118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1322640" cy="143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081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Where does tea come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made of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b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194472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06668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148360" y="4508640"/>
            <a:ext cx="1285920" cy="118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04000" y="692280"/>
            <a:ext cx="1214640" cy="13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 Why do people drink coffee and t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ey improve people’s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perform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t 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771280" y="-360"/>
            <a:ext cx="4032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003400" cy="2665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197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 How do you make t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us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tea ba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oose t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484000" y="-360"/>
            <a:ext cx="42973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1655640" cy="134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1657440" cy="1250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7:14:07Z</dcterms:created>
  <dc:creator>**</dc:creator>
  <dc:description/>
  <dc:language>en-US</dc:language>
  <cp:lastModifiedBy>**</cp:lastModifiedBy>
  <dcterms:modified xsi:type="dcterms:W3CDTF">2005-03-12T20:06:51Z</dcterms:modified>
  <cp:revision>6</cp:revision>
  <dc:subject/>
  <dc:title>Unit: 3 Lesson:1 A refreshing Drink</dc:title>
</cp:coreProperties>
</file>